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Прямоугольник 1"/>
          <p:cNvSpPr/>
          <p:nvPr/>
        </p:nvSpPr>
        <p:spPr>
          <a:xfrm>
            <a:off x="5292720" y="968400"/>
            <a:ext cx="24526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3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ЗАТВЕРДЖЕН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75"/>
              </a:lnSpc>
              <a:spcAft>
                <a:spcPts val="4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Наказ Міністерства фінансів України 26 серпня 2014 року № 83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Прямоугольник 2"/>
          <p:cNvSpPr/>
          <p:nvPr/>
        </p:nvSpPr>
        <p:spPr>
          <a:xfrm>
            <a:off x="1246320" y="2176560"/>
            <a:ext cx="68086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193920">
              <a:lnSpc>
                <a:spcPts val="1324"/>
              </a:lnSpc>
              <a:spcBef>
                <a:spcPts val="485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Зві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93920">
              <a:lnSpc>
                <a:spcPts val="1324"/>
              </a:lnSpc>
              <a:spcAft>
                <a:spcPts val="3175"/>
              </a:spcAft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про виконання паспорта бюджетної програми місцевого бюджету станом на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_2017__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рік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Прямоугольник 4"/>
          <p:cNvSpPr/>
          <p:nvPr/>
        </p:nvSpPr>
        <p:spPr>
          <a:xfrm>
            <a:off x="790560" y="2825640"/>
            <a:ext cx="1317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1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" name=""/>
          <p:cNvGraphicFramePr/>
          <p:nvPr/>
        </p:nvGraphicFramePr>
        <p:xfrm>
          <a:off x="1015920" y="2940120"/>
          <a:ext cx="6572160" cy="1644480"/>
        </p:xfrm>
        <a:graphic>
          <a:graphicData uri="http://schemas.openxmlformats.org/drawingml/2006/table">
            <a:tbl>
              <a:tblPr/>
              <a:tblGrid>
                <a:gridCol w="1225800"/>
                <a:gridCol w="5346360"/>
              </a:tblGrid>
              <a:tr h="527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_0300000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КПКВК М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___Камінь-Каширська районна державна адміністрація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4240"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найменування головного розпорядник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031000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КПКВК М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_Камінь-Каширська районна державна адміністрація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4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найменування відповідального виконавц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031733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КПКВК М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Програма в галузі сільського господарства, лісового господарства, рибальства та мисливства                                  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____________ (КФКВК)1 (найменування бюджетної програм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Прямоугольник 6"/>
          <p:cNvSpPr/>
          <p:nvPr/>
        </p:nvSpPr>
        <p:spPr>
          <a:xfrm>
            <a:off x="790560" y="4618080"/>
            <a:ext cx="49546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3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4. Видатки та надання кредитів за бюджетною програмою за звітний періо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7"/>
          <p:cNvSpPr/>
          <p:nvPr/>
        </p:nvSpPr>
        <p:spPr>
          <a:xfrm>
            <a:off x="8055000" y="4784760"/>
            <a:ext cx="5000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571680" y="5214960"/>
          <a:ext cx="8054640" cy="741240"/>
        </p:xfrm>
        <a:graphic>
          <a:graphicData uri="http://schemas.openxmlformats.org/drawingml/2006/table">
            <a:tbl>
              <a:tblPr/>
              <a:tblGrid>
                <a:gridCol w="896760"/>
                <a:gridCol w="1073160"/>
                <a:gridCol w="806400"/>
                <a:gridCol w="951120"/>
                <a:gridCol w="1096920"/>
                <a:gridCol w="652320"/>
                <a:gridCol w="868320"/>
                <a:gridCol w="1031760"/>
                <a:gridCol w="677880"/>
              </a:tblGrid>
              <a:tr h="147960"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тверджено паспортом бюджетної прогр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сові видатки (надані кредити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ідхил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 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 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 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4570560" y="444600"/>
            <a:ext cx="871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986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2"/>
          <p:cNvSpPr/>
          <p:nvPr/>
        </p:nvSpPr>
        <p:spPr>
          <a:xfrm>
            <a:off x="755640" y="907920"/>
            <a:ext cx="61754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324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5. Обсяги фінансування бюджетної програми за звітний період у розрізі підпрограм та завдан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8050320" y="939960"/>
            <a:ext cx="50004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42880" y="1222200"/>
          <a:ext cx="8053560" cy="1675080"/>
        </p:xfrm>
        <a:graphic>
          <a:graphicData uri="http://schemas.openxmlformats.org/drawingml/2006/table">
            <a:tbl>
              <a:tblPr/>
              <a:tblGrid>
                <a:gridCol w="312840"/>
                <a:gridCol w="515880"/>
                <a:gridCol w="614520"/>
                <a:gridCol w="1287360"/>
                <a:gridCol w="669960"/>
                <a:gridCol w="600120"/>
                <a:gridCol w="442800"/>
                <a:gridCol w="668160"/>
                <a:gridCol w="648000"/>
                <a:gridCol w="444240"/>
                <a:gridCol w="669960"/>
                <a:gridCol w="642960"/>
                <a:gridCol w="536760"/>
              </a:tblGrid>
              <a:tr h="476640">
                <a:tc rowSpan="2">
                  <a:txBody>
                    <a:bodyPr lIns="0" rIns="0" tIns="0" bIns="0" anchor="ctr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1015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1270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Ф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програма/ завдання бюджетної програми </a:t>
                      </a:r>
                      <a:r>
                        <a:rPr b="0" lang="ru-RU" sz="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верджено паспортом бюджетної програми на звітний пері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сові видатки (надані кредити) за звітний пері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хил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 algn="just">
                        <a:lnSpc>
                          <a:spcPts val="12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іальний 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396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3968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 algn="just">
                        <a:lnSpc>
                          <a:spcPts val="12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іальний 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396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3968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39680" algn="just">
                        <a:lnSpc>
                          <a:spcPts val="12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іальний 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173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рама в галузі сільського господарства, лісового господарства, рибальства та мисливств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Прямоугольник 5"/>
          <p:cNvSpPr/>
          <p:nvPr/>
        </p:nvSpPr>
        <p:spPr>
          <a:xfrm>
            <a:off x="357120" y="3643200"/>
            <a:ext cx="772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397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6. Видатки на реалізацію регіональних цільових програм, які виконуються в межах бюджетної програми, за звітний періо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7858080" y="3786120"/>
            <a:ext cx="5000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00040" y="4071960"/>
          <a:ext cx="7810560" cy="1611360"/>
        </p:xfrm>
        <a:graphic>
          <a:graphicData uri="http://schemas.openxmlformats.org/drawingml/2006/table">
            <a:tbl>
              <a:tblPr/>
              <a:tblGrid>
                <a:gridCol w="2049480"/>
                <a:gridCol w="668520"/>
                <a:gridCol w="736560"/>
                <a:gridCol w="515880"/>
                <a:gridCol w="668160"/>
                <a:gridCol w="736560"/>
                <a:gridCol w="611280"/>
                <a:gridCol w="495360"/>
                <a:gridCol w="811080"/>
                <a:gridCol w="517680"/>
              </a:tblGrid>
              <a:tr h="32364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гіональної цільової програми та підпрогр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тверджено паспортом бюджетної програми на звітний пері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marL="635040" algn="just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сові видатки (надані кредити) за звітний пері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ідхил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270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708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015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270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708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тримка ОСГ, які утримують три і більше корів у Камінь-Каширському район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4572000" y="444600"/>
            <a:ext cx="7776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986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714240" y="1000080"/>
            <a:ext cx="58309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1324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7. Результативні показники бюджетної програми та аналіз їх виконання за звітний періо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00040" y="1158840"/>
          <a:ext cx="8164440" cy="4794120"/>
        </p:xfrm>
        <a:graphic>
          <a:graphicData uri="http://schemas.openxmlformats.org/drawingml/2006/table">
            <a:tbl>
              <a:tblPr/>
              <a:tblGrid>
                <a:gridCol w="214200"/>
                <a:gridCol w="428760"/>
                <a:gridCol w="1224000"/>
                <a:gridCol w="617400"/>
                <a:gridCol w="719280"/>
                <a:gridCol w="1647720"/>
                <a:gridCol w="1795680"/>
                <a:gridCol w="1517400"/>
              </a:tblGrid>
              <a:tr h="443160">
                <a:tc>
                  <a:txBody>
                    <a:bodyPr lIns="0" rIns="0" tIns="0" bIns="0" anchor="ctr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396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ни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015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иниц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мір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жерел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формації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тверджено паспортом бюджетної програми на звітний періо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конано за звітний період (касові видатки/надані кредити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ідхиленн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173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и в галузі сільського господарства, лісового господарства, рибальства та мисливств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плата дотації власникам ОСГ, які утримують 3 і більше корі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сяг фінансового ресурсу на реалізацію заходу на який планується надання дотації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с.грн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шторис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56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дук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ількість власників ОСГ, які утримують 3 і більше корі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іб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рахунков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92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фективност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едні в</a:t>
                      </a: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трати на одн</a:t>
                      </a: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ов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н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шторис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92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кост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тома вага ОСГ, які утримують 3 і більше корів в занальній кількості ОСГ, які потребують виплати дотаці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с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рахунков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4570560" y="444600"/>
            <a:ext cx="871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986"/>
              </a:lnSpc>
              <a:spcAft>
                <a:spcPts val="12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"/>
          <p:cNvSpPr/>
          <p:nvPr/>
        </p:nvSpPr>
        <p:spPr>
          <a:xfrm>
            <a:off x="717480" y="984240"/>
            <a:ext cx="46195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324"/>
              </a:lnSpc>
              <a:spcBef>
                <a:spcPts val="12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Джерела фінансування інвестиційних проектів у розрізі підпрограм</a:t>
            </a:r>
            <a:r>
              <a:rPr b="0" lang="en-US" sz="11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8055000" y="939960"/>
            <a:ext cx="50004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36400" y="1292400"/>
          <a:ext cx="8228160" cy="2914560"/>
        </p:xfrm>
        <a:graphic>
          <a:graphicData uri="http://schemas.openxmlformats.org/drawingml/2006/table">
            <a:tbl>
              <a:tblPr/>
              <a:tblGrid>
                <a:gridCol w="368640"/>
                <a:gridCol w="1465200"/>
                <a:gridCol w="536400"/>
                <a:gridCol w="540000"/>
                <a:gridCol w="539640"/>
                <a:gridCol w="385560"/>
                <a:gridCol w="540000"/>
                <a:gridCol w="536400"/>
                <a:gridCol w="385920"/>
                <a:gridCol w="539640"/>
                <a:gridCol w="536760"/>
                <a:gridCol w="385560"/>
                <a:gridCol w="539640"/>
                <a:gridCol w="536760"/>
                <a:gridCol w="392040"/>
              </a:tblGrid>
              <a:tr h="495000">
                <a:tc rowSpan="2">
                  <a:txBody>
                    <a:bodyPr lIns="0" rIns="0" tIns="0" bIns="0" anchor="ctr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йменування джерел надходж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marL="1015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сові видатки станом 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січня звітного період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 видатків звітного період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сові видатки за звітний пері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ноз видатків до кінця реалізації інвестиційного проек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 algn="just">
                        <a:lnSpc>
                          <a:spcPts val="103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 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ts val="103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 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ts val="103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 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ts val="103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 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її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778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778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вестиційний проект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дходження із бюдж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ші джерела фінансування (за видами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4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яснення щодо розбіжностей між фактичними надходженнями і тими, що затверджені паспортом бюджетної прогр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вестиційний проект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Прямоугольник 5"/>
          <p:cNvSpPr/>
          <p:nvPr/>
        </p:nvSpPr>
        <p:spPr>
          <a:xfrm>
            <a:off x="716040" y="4065480"/>
            <a:ext cx="779616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6"/>
          <p:cNvSpPr/>
          <p:nvPr/>
        </p:nvSpPr>
        <p:spPr>
          <a:xfrm>
            <a:off x="536400" y="4394160"/>
            <a:ext cx="80661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Код функціональної класифікації видатків та кредитування бюджету вказується лише у випадку, коли бюджетна програма не поділяється на підпрограм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Зазначаються усі підпрограми та завдання, затверджені паспортом бюджетної програм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86"/>
              </a:lnSpc>
              <a:spcAft>
                <a:spcPts val="12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Пункт 8 заповнюється тільки для затверджених у місцевому бюджеті видатків/надання кредитів на реалізацію інвестиційних проектів (програм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7"/>
          <p:cNvSpPr/>
          <p:nvPr/>
        </p:nvSpPr>
        <p:spPr>
          <a:xfrm>
            <a:off x="642960" y="5286240"/>
            <a:ext cx="733248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324"/>
              </a:lnSpc>
              <a:spcBef>
                <a:spcPts val="12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Голова райдержадміністрації                              ___________________                                _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В.С.Дунайчук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3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підпис)                                                               (ініціали та прізвище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3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Головний бухгалтер                                              ___________________                                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Г.С.Павлючук       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986"/>
              </a:lnSpc>
              <a:spcAft>
                <a:spcPts val="21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підпис)                                                                (ініціали та прізвище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31T09:52:16Z</dcterms:created>
  <dc:creator>User</dc:creator>
  <dc:description/>
  <dc:language>en-US</dc:language>
  <cp:lastModifiedBy>бух</cp:lastModifiedBy>
  <cp:lastPrinted>2016-10-07T09:27:26Z</cp:lastPrinted>
  <dcterms:modified xsi:type="dcterms:W3CDTF">2018-02-05T14:25:26Z</dcterms:modified>
  <cp:revision>11</cp:revision>
  <dc:subject/>
  <dc:title>Паспорт бюджетної програми. Звіт про виконання паспорту бюджетної програми.  Оцінка виконання програм</dc:title>
</cp:coreProperties>
</file>