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2017__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0300000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Камінь-Каширська районна державна адміністрація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а районна державна адміністрація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77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Інші природоохоронні засади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71680" y="5214960"/>
          <a:ext cx="8054640" cy="74124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176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152892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7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продоохоронні зас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357120" y="3643200"/>
            <a:ext cx="77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7858080" y="378612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4071960"/>
          <a:ext cx="7810560" cy="1316160"/>
        </p:xfrm>
        <a:graphic>
          <a:graphicData uri="http://schemas.openxmlformats.org/drawingml/2006/table">
            <a:tbl>
              <a:tblPr/>
              <a:tblGrid>
                <a:gridCol w="2049480"/>
                <a:gridCol w="668520"/>
                <a:gridCol w="736560"/>
                <a:gridCol w="515880"/>
                <a:gridCol w="668160"/>
                <a:gridCol w="736560"/>
                <a:gridCol w="611280"/>
                <a:gridCol w="495360"/>
                <a:gridCol w="811080"/>
                <a:gridCol w="517680"/>
              </a:tblGrid>
              <a:tr h="3236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природоохоронні зас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158840"/>
          <a:ext cx="8164440" cy="407520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7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природоохоронні захо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контролю за використанням на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паливно-мастильних матеріал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тр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бачені програмою заходи дадуть змогу  забезпечити контрольне видобування надр та забезпечити надходження коштів до бюджет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ома вага кількості виїздів мобільних групдо планової кількості виїзді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5"/>
          <p:cNvSpPr/>
          <p:nvPr/>
        </p:nvSpPr>
        <p:spPr>
          <a:xfrm>
            <a:off x="716040" y="406548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642960" y="5286240"/>
            <a:ext cx="7332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___________________             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.С.Дунайчук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ний бухгалтер                                              ___________________ 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Г.С.Павлючук       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09:52:16Z</dcterms:created>
  <dc:creator>User</dc:creator>
  <dc:description/>
  <dc:language>en-US</dc:language>
  <cp:lastModifiedBy>бух</cp:lastModifiedBy>
  <cp:lastPrinted>2016-10-07T09:27:26Z</cp:lastPrinted>
  <dcterms:modified xsi:type="dcterms:W3CDTF">2018-02-05T14:26:37Z</dcterms:modified>
  <cp:revision>18</cp:revision>
  <dc:subject/>
  <dc:title>Паспорт бюджетної програми. Звіт про виконання паспорту бюджетної програми.  Оцінка виконання програм</dc:title>
</cp:coreProperties>
</file>