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2017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64448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3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Районна державна адміністрація    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218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ий центр первинної медико-санітарної допомоги 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316410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Реалізація інвестиційних проектів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52600" y="4913280"/>
          <a:ext cx="8055000" cy="74448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212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230832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57276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іна віко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готовлення проектно-         кошторисної документ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медичного обладн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611280" y="3789360"/>
            <a:ext cx="771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028000" y="4076640"/>
            <a:ext cx="5000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4292640"/>
          <a:ext cx="8053560" cy="1774800"/>
        </p:xfrm>
        <a:graphic>
          <a:graphicData uri="http://schemas.openxmlformats.org/drawingml/2006/table">
            <a:tbl>
              <a:tblPr/>
              <a:tblGrid>
                <a:gridCol w="2112840"/>
                <a:gridCol w="689040"/>
                <a:gridCol w="760680"/>
                <a:gridCol w="531720"/>
                <a:gridCol w="689040"/>
                <a:gridCol w="758520"/>
                <a:gridCol w="459000"/>
                <a:gridCol w="682560"/>
                <a:gridCol w="836640"/>
                <a:gridCol w="533520"/>
              </a:tblGrid>
              <a:tr h="48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55640" y="836640"/>
            <a:ext cx="5830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052640"/>
          <a:ext cx="8164800" cy="942840"/>
        </p:xfrm>
        <a:graphic>
          <a:graphicData uri="http://schemas.openxmlformats.org/drawingml/2006/table">
            <a:tbl>
              <a:tblPr/>
              <a:tblGrid>
                <a:gridCol w="276480"/>
                <a:gridCol w="630000"/>
                <a:gridCol w="1901880"/>
                <a:gridCol w="576360"/>
                <a:gridCol w="1224000"/>
                <a:gridCol w="1439640"/>
                <a:gridCol w="1235160"/>
                <a:gridCol w="881280"/>
              </a:tblGrid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ізація інвестиційних проек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2"/>
          <p:cNvSpPr/>
          <p:nvPr/>
        </p:nvSpPr>
        <p:spPr>
          <a:xfrm>
            <a:off x="684360" y="213372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7667640" y="2205000"/>
            <a:ext cx="5000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24210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7"/>
          <p:cNvSpPr/>
          <p:nvPr/>
        </p:nvSpPr>
        <p:spPr>
          <a:xfrm>
            <a:off x="611280" y="5516640"/>
            <a:ext cx="75042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ерший заступник голови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   О.Ю.Михалі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 оловний бухгалтер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Г.С.Павлю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8-03-05T07:44:24Z</dcterms:modified>
  <cp:revision>244</cp:revision>
  <dc:subject/>
  <dc:title>Слайд 1</dc:title>
</cp:coreProperties>
</file>