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292720" y="968400"/>
            <a:ext cx="2452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4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1246320" y="2176560"/>
            <a:ext cx="6808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93920">
              <a:lnSpc>
                <a:spcPts val="1324"/>
              </a:lnSpc>
              <a:spcBef>
                <a:spcPts val="48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93920">
              <a:lnSpc>
                <a:spcPts val="1324"/>
              </a:lnSpc>
              <a:spcAft>
                <a:spcPts val="3175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 виконання паспорта бюджетної програми місцевого бюджету станом на  2017 рік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4"/>
          <p:cNvSpPr/>
          <p:nvPr/>
        </p:nvSpPr>
        <p:spPr>
          <a:xfrm>
            <a:off x="790560" y="2825640"/>
            <a:ext cx="131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015920" y="2940120"/>
          <a:ext cx="6572160" cy="1460520"/>
        </p:xfrm>
        <a:graphic>
          <a:graphicData uri="http://schemas.openxmlformats.org/drawingml/2006/table">
            <a:tbl>
              <a:tblPr/>
              <a:tblGrid>
                <a:gridCol w="1225800"/>
                <a:gridCol w="5346360"/>
              </a:tblGrid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__03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Районна державна адміністрація    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головного розпорядн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218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Камінь-Каширський центр первинної медико-санітарної допомоги 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відповідального виконавц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0312220__  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Інші заходи в галузі охорони здоров’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 (КФКВК)1 (найменування бюджетної прогр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Прямоугольник 6"/>
          <p:cNvSpPr/>
          <p:nvPr/>
        </p:nvSpPr>
        <p:spPr>
          <a:xfrm>
            <a:off x="790560" y="4618080"/>
            <a:ext cx="4954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Видатки та надання кредитів за бюджетною програмою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8055000" y="4784760"/>
            <a:ext cx="50004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52600" y="4913280"/>
          <a:ext cx="8055000" cy="744480"/>
        </p:xfrm>
        <a:graphic>
          <a:graphicData uri="http://schemas.openxmlformats.org/drawingml/2006/table">
            <a:tbl>
              <a:tblPr/>
              <a:tblGrid>
                <a:gridCol w="896760"/>
                <a:gridCol w="1073160"/>
                <a:gridCol w="806400"/>
                <a:gridCol w="951120"/>
                <a:gridCol w="1096920"/>
                <a:gridCol w="652320"/>
                <a:gridCol w="868320"/>
                <a:gridCol w="1032120"/>
                <a:gridCol w="677880"/>
              </a:tblGrid>
              <a:tr h="1479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8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8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755640" y="907920"/>
            <a:ext cx="6175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 Обсяги фінансування бюджетної програми за звітний період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805032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2880" y="1222200"/>
          <a:ext cx="8053560" cy="1379880"/>
        </p:xfrm>
        <a:graphic>
          <a:graphicData uri="http://schemas.openxmlformats.org/drawingml/2006/table">
            <a:tbl>
              <a:tblPr/>
              <a:tblGrid>
                <a:gridCol w="312840"/>
                <a:gridCol w="515880"/>
                <a:gridCol w="614520"/>
                <a:gridCol w="1287360"/>
                <a:gridCol w="669960"/>
                <a:gridCol w="600120"/>
                <a:gridCol w="442800"/>
                <a:gridCol w="668160"/>
                <a:gridCol w="648000"/>
                <a:gridCol w="444240"/>
                <a:gridCol w="669960"/>
                <a:gridCol w="642960"/>
                <a:gridCol w="536760"/>
              </a:tblGrid>
              <a:tr h="476640">
                <a:tc rowSpan="2"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22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заходи в галузі охорони здоров’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8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8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8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8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5"/>
          <p:cNvSpPr/>
          <p:nvPr/>
        </p:nvSpPr>
        <p:spPr>
          <a:xfrm>
            <a:off x="755640" y="3141720"/>
            <a:ext cx="771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Видатки на реалізацію регіональних цільових програм, які виконуються в межах бюджетної програми,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8028000" y="3573360"/>
            <a:ext cx="5000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3860640"/>
          <a:ext cx="8053560" cy="1774800"/>
        </p:xfrm>
        <a:graphic>
          <a:graphicData uri="http://schemas.openxmlformats.org/drawingml/2006/table">
            <a:tbl>
              <a:tblPr/>
              <a:tblGrid>
                <a:gridCol w="2112840"/>
                <a:gridCol w="689040"/>
                <a:gridCol w="760680"/>
                <a:gridCol w="531720"/>
                <a:gridCol w="689040"/>
                <a:gridCol w="758520"/>
                <a:gridCol w="459000"/>
                <a:gridCol w="682560"/>
                <a:gridCol w="836640"/>
                <a:gridCol w="533520"/>
              </a:tblGrid>
              <a:tr h="4852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635040"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755640" y="836640"/>
            <a:ext cx="58309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Результативні показники бюджетної програми та аналіз їх виконання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052640"/>
          <a:ext cx="8164800" cy="942840"/>
        </p:xfrm>
        <a:graphic>
          <a:graphicData uri="http://schemas.openxmlformats.org/drawingml/2006/table">
            <a:tbl>
              <a:tblPr/>
              <a:tblGrid>
                <a:gridCol w="276480"/>
                <a:gridCol w="630000"/>
                <a:gridCol w="1901880"/>
                <a:gridCol w="576360"/>
                <a:gridCol w="1224000"/>
                <a:gridCol w="1439640"/>
                <a:gridCol w="1235160"/>
                <a:gridCol w="881280"/>
              </a:tblGrid>
              <a:tr h="48564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заходи в галузі охорони здоров’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Прямоугольник 2"/>
          <p:cNvSpPr/>
          <p:nvPr/>
        </p:nvSpPr>
        <p:spPr>
          <a:xfrm>
            <a:off x="755640" y="2133720"/>
            <a:ext cx="4619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8244000" y="213372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9640" y="2421000"/>
          <a:ext cx="8228160" cy="2914560"/>
        </p:xfrm>
        <a:graphic>
          <a:graphicData uri="http://schemas.openxmlformats.org/drawingml/2006/table">
            <a:tbl>
              <a:tblPr/>
              <a:tblGrid>
                <a:gridCol w="368640"/>
                <a:gridCol w="1465200"/>
                <a:gridCol w="536400"/>
                <a:gridCol w="540000"/>
                <a:gridCol w="539640"/>
                <a:gridCol w="385560"/>
                <a:gridCol w="540000"/>
                <a:gridCol w="536400"/>
                <a:gridCol w="385920"/>
                <a:gridCol w="539640"/>
                <a:gridCol w="536760"/>
                <a:gridCol w="385560"/>
                <a:gridCol w="539640"/>
                <a:gridCol w="536760"/>
                <a:gridCol w="392040"/>
              </a:tblGrid>
              <a:tr h="49500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 прое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розбіжностей між фактичними надходженнями і тими, що затверджені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7"/>
          <p:cNvSpPr/>
          <p:nvPr/>
        </p:nvSpPr>
        <p:spPr>
          <a:xfrm>
            <a:off x="971640" y="5589720"/>
            <a:ext cx="75042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ерший заступник голови районної державної адміністрації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   О.Ю.Михалі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 оловний бухгалтер районної державної адміністрації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_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Г.С.Павлю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бух</cp:lastModifiedBy>
  <cp:lastPrinted>2016-10-07T09:27:26Z</cp:lastPrinted>
  <dcterms:modified xsi:type="dcterms:W3CDTF">2018-03-05T07:44:50Z</dcterms:modified>
  <cp:revision>236</cp:revision>
  <dc:subject/>
  <dc:title>Слайд 1</dc:title>
</cp:coreProperties>
</file>