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292720" y="968400"/>
            <a:ext cx="2452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4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1246320" y="2176560"/>
            <a:ext cx="6808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93920">
              <a:lnSpc>
                <a:spcPts val="1324"/>
              </a:lnSpc>
              <a:spcBef>
                <a:spcPts val="48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Зві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93920">
              <a:lnSpc>
                <a:spcPts val="1324"/>
              </a:lnSpc>
              <a:spcAft>
                <a:spcPts val="3175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ро виконання паспорта бюджетної програми місцевого бюджету станом на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_2017__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рік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4"/>
          <p:cNvSpPr/>
          <p:nvPr/>
        </p:nvSpPr>
        <p:spPr>
          <a:xfrm>
            <a:off x="790560" y="2825640"/>
            <a:ext cx="131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1015920" y="2940120"/>
          <a:ext cx="6572160" cy="1460520"/>
        </p:xfrm>
        <a:graphic>
          <a:graphicData uri="http://schemas.openxmlformats.org/drawingml/2006/table">
            <a:tbl>
              <a:tblPr/>
              <a:tblGrid>
                <a:gridCol w="1225800"/>
                <a:gridCol w="5346360"/>
              </a:tblGrid>
              <a:tr h="52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0300000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__Камінь-Каширська районна державна адміністрація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йменування головного розпорядни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3100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Камінь-Каширська районна державна адміністрація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йменування відповідального виконавц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3142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Інші культурно-освітні заклади та засади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 (КФКВК)1 (найменування бюджетної прогр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Прямоугольник 6"/>
          <p:cNvSpPr/>
          <p:nvPr/>
        </p:nvSpPr>
        <p:spPr>
          <a:xfrm>
            <a:off x="790560" y="4618080"/>
            <a:ext cx="4954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Видатки та надання кредитів за бюджетною програмою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8055000" y="4784760"/>
            <a:ext cx="5000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71680" y="5214960"/>
          <a:ext cx="8054640" cy="741240"/>
        </p:xfrm>
        <a:graphic>
          <a:graphicData uri="http://schemas.openxmlformats.org/drawingml/2006/table">
            <a:tbl>
              <a:tblPr/>
              <a:tblGrid>
                <a:gridCol w="896760"/>
                <a:gridCol w="1073160"/>
                <a:gridCol w="806400"/>
                <a:gridCol w="951120"/>
                <a:gridCol w="1096920"/>
                <a:gridCol w="652320"/>
                <a:gridCol w="868320"/>
                <a:gridCol w="1031760"/>
                <a:gridCol w="677880"/>
              </a:tblGrid>
              <a:tr h="1479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(надані кредит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4570560" y="444600"/>
            <a:ext cx="87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755640" y="907920"/>
            <a:ext cx="6175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5. Обсяги фінансування бюджетної програми за звітний період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8050320" y="939960"/>
            <a:ext cx="5000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42880" y="1222200"/>
          <a:ext cx="8053560" cy="1379880"/>
        </p:xfrm>
        <a:graphic>
          <a:graphicData uri="http://schemas.openxmlformats.org/drawingml/2006/table">
            <a:tbl>
              <a:tblPr/>
              <a:tblGrid>
                <a:gridCol w="312840"/>
                <a:gridCol w="515880"/>
                <a:gridCol w="614520"/>
                <a:gridCol w="1287360"/>
                <a:gridCol w="669960"/>
                <a:gridCol w="600120"/>
                <a:gridCol w="442800"/>
                <a:gridCol w="668160"/>
                <a:gridCol w="648000"/>
                <a:gridCol w="444240"/>
                <a:gridCol w="669960"/>
                <a:gridCol w="642960"/>
                <a:gridCol w="536760"/>
              </a:tblGrid>
              <a:tr h="4766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ограма/ завдання бюджетної програми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ові видатки (надані кредити)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96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96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14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ші культурно-освітні заклади та засад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5"/>
          <p:cNvSpPr/>
          <p:nvPr/>
        </p:nvSpPr>
        <p:spPr>
          <a:xfrm>
            <a:off x="357120" y="3643200"/>
            <a:ext cx="772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397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6. Видатки на реалізацію регіональних цільових програм, які виконуються в межах бюджетної програми,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7858080" y="3786120"/>
            <a:ext cx="5000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00040" y="4071960"/>
          <a:ext cx="7810560" cy="1316160"/>
        </p:xfrm>
        <a:graphic>
          <a:graphicData uri="http://schemas.openxmlformats.org/drawingml/2006/table">
            <a:tbl>
              <a:tblPr/>
              <a:tblGrid>
                <a:gridCol w="2049480"/>
                <a:gridCol w="668520"/>
                <a:gridCol w="736560"/>
                <a:gridCol w="515880"/>
                <a:gridCol w="668160"/>
                <a:gridCol w="736560"/>
                <a:gridCol w="611280"/>
                <a:gridCol w="495360"/>
                <a:gridCol w="811080"/>
                <a:gridCol w="517680"/>
              </a:tblGrid>
              <a:tr h="3236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635040"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(надані кредити)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70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70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культурно-освітні заклади та засад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572000" y="444600"/>
            <a:ext cx="7776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714240" y="1000080"/>
            <a:ext cx="58309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7. Результативні показники бюджетної програми та аналіз їх виконання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00040" y="1158840"/>
          <a:ext cx="8164440" cy="3252960"/>
        </p:xfrm>
        <a:graphic>
          <a:graphicData uri="http://schemas.openxmlformats.org/drawingml/2006/table">
            <a:tbl>
              <a:tblPr/>
              <a:tblGrid>
                <a:gridCol w="214200"/>
                <a:gridCol w="428760"/>
                <a:gridCol w="1224000"/>
                <a:gridCol w="617400"/>
                <a:gridCol w="719280"/>
                <a:gridCol w="1647720"/>
                <a:gridCol w="1795680"/>
                <a:gridCol w="1517400"/>
              </a:tblGrid>
              <a:tr h="44316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н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мір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формації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конано за звітний період (касові видатки/надані кредит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4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культурно-освітні заклади та заход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яг фінансового ресурсу на реалізацію заходу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ори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ількість укладених договорі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иц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ісячн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ектив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дня в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трат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і бухобліку (оборотно-сальдова відомість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 зростання витратна обслуговування договору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тність установ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4570560" y="444600"/>
            <a:ext cx="87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2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717480" y="984240"/>
            <a:ext cx="4619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spcBef>
                <a:spcPts val="12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8055000" y="939960"/>
            <a:ext cx="5000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6400" y="1292400"/>
          <a:ext cx="8228160" cy="2914560"/>
        </p:xfrm>
        <a:graphic>
          <a:graphicData uri="http://schemas.openxmlformats.org/drawingml/2006/table">
            <a:tbl>
              <a:tblPr/>
              <a:tblGrid>
                <a:gridCol w="368640"/>
                <a:gridCol w="1465200"/>
                <a:gridCol w="536400"/>
                <a:gridCol w="540000"/>
                <a:gridCol w="539640"/>
                <a:gridCol w="385560"/>
                <a:gridCol w="540000"/>
                <a:gridCol w="536400"/>
                <a:gridCol w="385920"/>
                <a:gridCol w="539640"/>
                <a:gridCol w="536760"/>
                <a:gridCol w="385560"/>
                <a:gridCol w="539640"/>
                <a:gridCol w="536760"/>
                <a:gridCol w="392040"/>
              </a:tblGrid>
              <a:tr h="495000">
                <a:tc rowSpan="2"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 прое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ї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 щодо розбіжностей між фактичними надходженнями і тими, що затверджені паспортом бюджетної 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Прямоугольник 5"/>
          <p:cNvSpPr/>
          <p:nvPr/>
        </p:nvSpPr>
        <p:spPr>
          <a:xfrm>
            <a:off x="716040" y="4065480"/>
            <a:ext cx="77961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536400" y="4394160"/>
            <a:ext cx="80661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Зазначаються усі підпрограми та завдання, затверджені паспортом бюджетної 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86"/>
              </a:lnSpc>
              <a:spcAft>
                <a:spcPts val="12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ункт 8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642960" y="5286240"/>
            <a:ext cx="73324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24"/>
              </a:lnSpc>
              <a:spcBef>
                <a:spcPts val="12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Голова райдержадміністрації                              ___________________                                _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В.С.Дунайчук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підпис)                                                               (ініціали та прізвище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Головний бухгалтер                                              ___________________                             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Г.С.Павлючук       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1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підпис)                                                                (ініціали та прізвище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09:52:16Z</dcterms:created>
  <dc:creator>User</dc:creator>
  <dc:description/>
  <dc:language>en-US</dc:language>
  <cp:lastModifiedBy>бух</cp:lastModifiedBy>
  <cp:lastPrinted>2016-10-07T09:27:26Z</cp:lastPrinted>
  <dcterms:modified xsi:type="dcterms:W3CDTF">2018-02-05T14:22:16Z</dcterms:modified>
  <cp:revision>16</cp:revision>
  <dc:subject/>
  <dc:title>Паспорт бюджетної програми. Звіт про виконання паспорту бюджетної програми.  Оцінка виконання програм</dc:title>
</cp:coreProperties>
</file>