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292720" y="968400"/>
            <a:ext cx="2452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1246320" y="2176560"/>
            <a:ext cx="6808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193920">
              <a:lnSpc>
                <a:spcPts val="1324"/>
              </a:lnSpc>
              <a:spcBef>
                <a:spcPts val="48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Інформ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93920">
              <a:lnSpc>
                <a:spcPts val="1324"/>
              </a:lnSpc>
              <a:spcAft>
                <a:spcPts val="3175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о досягнення цілей та показників результату діяльності головного розпорядника бюджетних коштів за звітний бюджетний період та результатів оцінки уфективності бюджетних програм за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_2017__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рік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4"/>
          <p:cNvSpPr/>
          <p:nvPr/>
        </p:nvSpPr>
        <p:spPr>
          <a:xfrm>
            <a:off x="790560" y="2825640"/>
            <a:ext cx="131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41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015920" y="3573360"/>
          <a:ext cx="6572160" cy="1224000"/>
        </p:xfrm>
        <a:graphic>
          <a:graphicData uri="http://schemas.openxmlformats.org/drawingml/2006/table">
            <a:tbl>
              <a:tblPr/>
              <a:tblGrid>
                <a:gridCol w="1225800"/>
                <a:gridCol w="5346360"/>
              </a:tblGrid>
              <a:tr h="39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0300000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__Камінь-Каширська районна державна адміністрація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головного розпорядн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31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ПКВК М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_Камінь-Каширська районна державна адміністрація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йменування відповідального виконавц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6"/>
          <p:cNvSpPr/>
          <p:nvPr/>
        </p:nvSpPr>
        <p:spPr>
          <a:xfrm>
            <a:off x="790560" y="4618080"/>
            <a:ext cx="4954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8055000" y="4784760"/>
            <a:ext cx="500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Результативні показники бюджетної програми та аналіз їх виконання за звітний пері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00040" y="1158840"/>
          <a:ext cx="8164440" cy="325296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66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укладених догов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я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бухобліку (оборотно-сальдова відомість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зростання витратна обслуговування договору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040" y="1158840"/>
          <a:ext cx="8164440" cy="407520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7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природоохоронні захо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контролю за використанням на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бання паливно-мастильних матеріал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тр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бачені програмою заходи дадуть змогу  забезпечити контрольне видобування надр та забезпечити надходження коштів до бюджет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ома вага кількості виїздів мобільних групдо планової кількості виїзді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0040" y="1158840"/>
          <a:ext cx="8164440" cy="325296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4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культурно-освітні заклади та захо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укладених догов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я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бухобліку (оборотно-сальдова відомість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зростання витратна обслуговування договору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72000" y="444600"/>
            <a:ext cx="77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714240" y="1000080"/>
            <a:ext cx="5830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1158840"/>
          <a:ext cx="8164440" cy="4794120"/>
        </p:xfrm>
        <a:graphic>
          <a:graphicData uri="http://schemas.openxmlformats.org/drawingml/2006/table">
            <a:tbl>
              <a:tblPr/>
              <a:tblGrid>
                <a:gridCol w="214200"/>
                <a:gridCol w="428760"/>
                <a:gridCol w="1224000"/>
                <a:gridCol w="617400"/>
                <a:gridCol w="719280"/>
                <a:gridCol w="1647720"/>
                <a:gridCol w="1795680"/>
                <a:gridCol w="151740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мір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форм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верджено паспортом бюджетної програми на звітний пері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за звітний період (касові видатки/надані кредит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хилен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173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и в галузі сільського господарства, лісового господарства, рибальства та мислив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плата дотації власникам ОСГ, які утримують 3 і більше кор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 фінансового ресурсу на реалізацію заходу на який планується надання дот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ількість власників ОСГ, які утримують 3 і більше корі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іб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дні в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рати на одн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в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ома вага ОСГ, які утримують 3 і більше корів в занальній кількості ОСГ, які потребують виплати дотаці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унков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09:52:16Z</dcterms:created>
  <dc:creator>User</dc:creator>
  <dc:description/>
  <dc:language>en-US</dc:language>
  <cp:lastModifiedBy>бух</cp:lastModifiedBy>
  <cp:lastPrinted>2016-10-07T09:27:26Z</cp:lastPrinted>
  <dcterms:modified xsi:type="dcterms:W3CDTF">2018-03-07T09:27:15Z</dcterms:modified>
  <cp:revision>18</cp:revision>
  <dc:subject/>
  <dc:title>Паспорт бюджетної програми. Звіт про виконання паспорту бюджетної програми.  Оцінка виконання програм</dc:title>
</cp:coreProperties>
</file>