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Розпорядження №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_51_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від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19.02.2018 року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Камінь-Каширська районна державна адміністрація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 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аказ _Управління фінансів К-Каширської РДА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_19.02.2018 р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 №__1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17920" y="3860640"/>
            <a:ext cx="3827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 2018 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797040" y="4489560"/>
            <a:ext cx="76802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   0200000   __Камінь-Каширська районна державна адміністрація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   0210000___Камінь-Каширська районна державна адміністрація 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_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0213110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рограми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 Заклади і заходи з питань дітей та їх соціального захист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684360" y="1206360"/>
            <a:ext cx="77454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 30,0 тис. гривень, у тому числі загального фонду 30,0 тис. грн. та спеціального фонду -0 тис. гр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Підстави для виконання бюджетної програми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Мета бюджетної програми : Реалізація державних та місцевих житлових програ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14240" y="2492280"/>
          <a:ext cx="5639040" cy="679680"/>
        </p:xfrm>
        <a:graphic>
          <a:graphicData uri="http://schemas.openxmlformats.org/drawingml/2006/table">
            <a:tbl>
              <a:tblPr/>
              <a:tblGrid>
                <a:gridCol w="552600"/>
                <a:gridCol w="730080"/>
                <a:gridCol w="990720"/>
                <a:gridCol w="3365640"/>
              </a:tblGrid>
              <a:tr h="21528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31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ходи державної політики з пмтань дітей та їх соціального захис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Прямоугольник 4"/>
          <p:cNvSpPr/>
          <p:nvPr/>
        </p:nvSpPr>
        <p:spPr>
          <a:xfrm>
            <a:off x="826920" y="3767040"/>
            <a:ext cx="53089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28640" y="4427640"/>
            <a:ext cx="53071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63400" y="4149720"/>
          <a:ext cx="5637240" cy="1200240"/>
        </p:xfrm>
        <a:graphic>
          <a:graphicData uri="http://schemas.openxmlformats.org/drawingml/2006/table">
            <a:tbl>
              <a:tblPr/>
              <a:tblGrid>
                <a:gridCol w="317520"/>
                <a:gridCol w="540000"/>
                <a:gridCol w="630000"/>
                <a:gridCol w="2521080"/>
                <a:gridCol w="576360"/>
                <a:gridCol w="647640"/>
                <a:gridCol w="40464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13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ходи державної політики з пмтань дітей та їх соціального захис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Ь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14760" y="54756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857160" y="2500200"/>
            <a:ext cx="523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9640" y="2997360"/>
          <a:ext cx="7216920" cy="3538440"/>
        </p:xfrm>
        <a:graphic>
          <a:graphicData uri="http://schemas.openxmlformats.org/drawingml/2006/table">
            <a:tbl>
              <a:tblPr/>
              <a:tblGrid>
                <a:gridCol w="750960"/>
                <a:gridCol w="690480"/>
                <a:gridCol w="1614600"/>
                <a:gridCol w="1461960"/>
                <a:gridCol w="1374840"/>
                <a:gridCol w="1324080"/>
              </a:tblGrid>
              <a:tr h="295560">
                <a:tc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да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умов для забезпечення прав дітей, у тому числі тих, які виховуються в сім»ях, які неспроможні або не бажають виконувати виховні функції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ий бюдж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регіональних заходів державної політики з питань ді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часників регіональних заходів державної політики з питань ді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урнал обліку ді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і витрати на проведення одного регіонального заходу державної політики з питань дітей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порядж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ост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іка дітей охоплених регіональними заходами державної політики з питань дітей, порівняно з минулим роком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о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ахун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42960" y="1214280"/>
          <a:ext cx="5638680" cy="1087560"/>
        </p:xfrm>
        <a:graphic>
          <a:graphicData uri="http://schemas.openxmlformats.org/drawingml/2006/table">
            <a:tbl>
              <a:tblPr/>
              <a:tblGrid>
                <a:gridCol w="2057400"/>
                <a:gridCol w="727200"/>
                <a:gridCol w="1000080"/>
                <a:gridCol w="923760"/>
                <a:gridCol w="930240"/>
              </a:tblGrid>
              <a:tr h="33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13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13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714240" y="928800"/>
            <a:ext cx="5875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714240" y="4929120"/>
            <a:ext cx="74296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Керівник установи головного розпорядника                                       _______________                                             _____</a:t>
            </a:r>
            <a:r>
              <a:rPr b="0" lang="uk-UA" sz="900" spc="-1" strike="noStrike" u="sng">
                <a:solidFill>
                  <a:srgbClr val="000000"/>
                </a:solidFill>
                <a:uFillTx/>
                <a:latin typeface="Times New Roman"/>
              </a:rPr>
              <a:t>  В.С.Дунайчук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бюджетних коштів__                                                                                        (підпис)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714240" y="5429160"/>
            <a:ext cx="75009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Керівник фінансового органу__                                                                _______________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_____В.Г. Бортнійчук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6-10-07T09:27:26Z</cp:lastPrinted>
  <dcterms:modified xsi:type="dcterms:W3CDTF">2018-02-28T10:31:08Z</dcterms:modified>
  <cp:revision>256</cp:revision>
  <dc:subject/>
  <dc:title>Слайд 1</dc:title>
</cp:coreProperties>
</file>