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№  51 ві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9.02.2018р.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12 від    19.02.2018р.                                                          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27280" y="3789360"/>
            <a:ext cx="3827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539640" y="448956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2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212110) (0726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898,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83,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,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Підвищення рівня надання медичної допомоги та збереження здоров’я населе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88508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4653000"/>
          <a:ext cx="7632720" cy="1405080"/>
        </p:xfrm>
        <a:graphic>
          <a:graphicData uri="http://schemas.openxmlformats.org/drawingml/2006/table">
            <a:tbl>
              <a:tblPr/>
              <a:tblGrid>
                <a:gridCol w="430200"/>
                <a:gridCol w="730440"/>
                <a:gridCol w="731520"/>
                <a:gridCol w="1876680"/>
                <a:gridCol w="1355760"/>
                <a:gridCol w="1249200"/>
                <a:gridCol w="1258920"/>
              </a:tblGrid>
              <a:tr h="41508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3716280"/>
          <a:ext cx="5638680" cy="46044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95280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32:50Z</dcterms:modified>
  <cp:revision>249</cp:revision>
  <dc:subject/>
  <dc:title>Слайд 1</dc:title>
</cp:coreProperties>
</file>