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розпорядчий документ  від 19.02.2018р. № 5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від 19.02.2018р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12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7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217320) Будівництво об’єктів соціально-культурного призначен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836640"/>
            <a:ext cx="78184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,6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по спеціальному фон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оригування проектно-кошторисної документації на реконструкцію Бузаківського, Нуйнівського та Воєгощанського ФАПів під АЗПСМи. Проведення експертиз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43700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8028000" y="4581360"/>
            <a:ext cx="482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4797360"/>
          <a:ext cx="7921440" cy="1284120"/>
        </p:xfrm>
        <a:graphic>
          <a:graphicData uri="http://schemas.openxmlformats.org/drawingml/2006/table">
            <a:tbl>
              <a:tblPr/>
              <a:tblGrid>
                <a:gridCol w="457200"/>
                <a:gridCol w="779400"/>
                <a:gridCol w="630000"/>
                <a:gridCol w="3533760"/>
                <a:gridCol w="863640"/>
                <a:gridCol w="863640"/>
                <a:gridCol w="793800"/>
              </a:tblGrid>
              <a:tr h="4154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7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гування проектно-кошторисної документації на реконструкцію Бузаківського, Нуйнівського та Воєгощанського ФАПів під АЗПС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7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експерти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4360" y="3789360"/>
          <a:ext cx="5638680" cy="378000"/>
        </p:xfrm>
        <a:graphic>
          <a:graphicData uri="http://schemas.openxmlformats.org/drawingml/2006/table">
            <a:tbl>
              <a:tblPr/>
              <a:tblGrid>
                <a:gridCol w="552240"/>
                <a:gridCol w="730440"/>
                <a:gridCol w="650880"/>
                <a:gridCol w="3705120"/>
              </a:tblGrid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7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івництво медичних установ та заклад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364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221000"/>
          <a:ext cx="7704360" cy="954360"/>
        </p:xfrm>
        <a:graphic>
          <a:graphicData uri="http://schemas.openxmlformats.org/drawingml/2006/table">
            <a:tbl>
              <a:tblPr/>
              <a:tblGrid>
                <a:gridCol w="360360"/>
                <a:gridCol w="576360"/>
                <a:gridCol w="3456000"/>
                <a:gridCol w="1008000"/>
                <a:gridCol w="1079640"/>
                <a:gridCol w="1224000"/>
              </a:tblGrid>
              <a:tr h="36000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і 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177336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539640" y="1268280"/>
            <a:ext cx="806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2-28T10:27:38Z</dcterms:modified>
  <cp:revision>239</cp:revision>
  <dc:subject/>
  <dc:title>Слайд 1</dc:title>
</cp:coreProperties>
</file>