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437080" y="1036800"/>
            <a:ext cx="24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23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4603680" y="1844640"/>
            <a:ext cx="411948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Розпорядження №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__51_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від 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19.02.2018 року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Камінь-Каширська районна державна адміністрація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 найменування головного розпорядника коштів місцевого бюджет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аказ _Управління фінансів К-Каширської РДА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найменування місцевого фінансового орган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__19.02.2018 р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_________ №__1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3"/>
          <p:cNvSpPr/>
          <p:nvPr/>
        </p:nvSpPr>
        <p:spPr>
          <a:xfrm>
            <a:off x="2617920" y="3860640"/>
            <a:ext cx="3827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аспор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24"/>
              </a:lnSpc>
              <a:spcAft>
                <a:spcPts val="1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бюджетної програми місцевого бюджету на 2018 рі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Прямоугольник 4"/>
          <p:cNvSpPr/>
          <p:nvPr/>
        </p:nvSpPr>
        <p:spPr>
          <a:xfrm>
            <a:off x="797040" y="4489560"/>
            <a:ext cx="768024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spcBef>
                <a:spcPts val="1913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.   0200000   __Камінь-Каширська районна державна адміністрація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головного розпорядни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.   0210000___Камінь-Каширська районна державна адміністрація 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відповідального виконавц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3.__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0217350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_   _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0443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програми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 Розробка схем планування та забудови територій (містобудівної документації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КФКВК)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(найменування бюджетної програм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4511520" y="54756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684360" y="1206360"/>
            <a:ext cx="77454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.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Обсяг бюджетних призначень/бюджетних асигнувань – 70,0 тис. гривень, у тому числі загального фонду 70,0 тис. грн. та спеціального фонду -0 тис. гр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5.Підстави для виконання бюджетної програми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85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Мета бюджетної програми : Реалізація державних та місцевих житлових програм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85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Підпрограми, спрямовані на досягнення мети, визначеної паспортом бюджетної прог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826920" y="3767040"/>
            <a:ext cx="530892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Обсяги фінансування бюджетної програми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728640" y="4427640"/>
            <a:ext cx="530712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63400" y="4149720"/>
          <a:ext cx="5637240" cy="1200240"/>
        </p:xfrm>
        <a:graphic>
          <a:graphicData uri="http://schemas.openxmlformats.org/drawingml/2006/table">
            <a:tbl>
              <a:tblPr/>
              <a:tblGrid>
                <a:gridCol w="317520"/>
                <a:gridCol w="540000"/>
                <a:gridCol w="630000"/>
                <a:gridCol w="2521080"/>
                <a:gridCol w="576360"/>
                <a:gridCol w="647640"/>
                <a:gridCol w="404640"/>
              </a:tblGrid>
              <a:tr h="443160">
                <a:tc>
                  <a:txBody>
                    <a:bodyPr lIns="0" rIns="0" tIns="0" bIns="0" anchor="ctr">
                      <a:noAutofit/>
                    </a:bodyPr>
                    <a:p>
                      <a:pPr marL="1144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52280" algn="just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/ завдання бюджетної програми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173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робка схем планування та забудови територій (містобудівної документації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СЬ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4514760" y="547560"/>
            <a:ext cx="77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6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857160" y="2500200"/>
            <a:ext cx="5235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0. Результативні показники бюджетної програми у розрізі підпрограм і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9640" y="2997360"/>
          <a:ext cx="7216920" cy="3517920"/>
        </p:xfrm>
        <a:graphic>
          <a:graphicData uri="http://schemas.openxmlformats.org/drawingml/2006/table">
            <a:tbl>
              <a:tblPr/>
              <a:tblGrid>
                <a:gridCol w="750960"/>
                <a:gridCol w="690480"/>
                <a:gridCol w="1614600"/>
                <a:gridCol w="1461960"/>
                <a:gridCol w="1374840"/>
                <a:gridCol w="1324080"/>
              </a:tblGrid>
              <a:tr h="295560">
                <a:tc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оказни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 вимір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 інформ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чення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да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орення умов для цілеспрямованій діяльності  по створенню та підтриманню повноцінного життєвого середовища, яке включає прогнозування, планування, забудову, проєктування, будівництво об»єктів та ін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ий бюдж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фінансування на розробку генплані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ори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населених пункті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а програ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іс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і витрати на розроблення одного генплану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ахун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ост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ення населених пунктів генеральними плана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от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ахунко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642960" y="1214280"/>
          <a:ext cx="5638680" cy="1087560"/>
        </p:xfrm>
        <a:graphic>
          <a:graphicData uri="http://schemas.openxmlformats.org/drawingml/2006/table">
            <a:tbl>
              <a:tblPr/>
              <a:tblGrid>
                <a:gridCol w="2057400"/>
                <a:gridCol w="727200"/>
                <a:gridCol w="1000080"/>
                <a:gridCol w="923760"/>
                <a:gridCol w="930240"/>
              </a:tblGrid>
              <a:tr h="330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а цільова 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173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Прямоугольник 8"/>
          <p:cNvSpPr/>
          <p:nvPr/>
        </p:nvSpPr>
        <p:spPr>
          <a:xfrm>
            <a:off x="714240" y="928800"/>
            <a:ext cx="58755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9. Перелік регіональних цільових програм, які виконуються у складі бюджетної прог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511520" y="54756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324000" y="4227480"/>
            <a:ext cx="79390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086"/>
              </a:lnSpc>
              <a:spcBef>
                <a:spcPts val="1500"/>
              </a:spcBef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Код функціональної класифікації видатків та кредитування бюджету вказується лише у випадку, коли бюджетна програма не поділяється на під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ункт 11 заповнюється тільки для затверджених у місцевому бюджеті видатків/надання кредитів на реалізацію інвестиційних проектів (програм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рогноз видатків до кінця реалізації інвестиційного проекту зазначається з розбивкою за рок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31920" y="1585800"/>
          <a:ext cx="8362800" cy="2517840"/>
        </p:xfrm>
        <a:graphic>
          <a:graphicData uri="http://schemas.openxmlformats.org/drawingml/2006/table">
            <a:tbl>
              <a:tblPr/>
              <a:tblGrid>
                <a:gridCol w="453960"/>
                <a:gridCol w="1436760"/>
                <a:gridCol w="546120"/>
                <a:gridCol w="579240"/>
                <a:gridCol w="682560"/>
                <a:gridCol w="392040"/>
                <a:gridCol w="574920"/>
                <a:gridCol w="684000"/>
                <a:gridCol w="390600"/>
                <a:gridCol w="579600"/>
                <a:gridCol w="682560"/>
                <a:gridCol w="393840"/>
                <a:gridCol w="966600"/>
              </a:tblGrid>
              <a:tr h="471240">
                <a:tc rowSpan="2"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190440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у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, що характеризують джерела фінансува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Прямоугольник 8"/>
          <p:cNvSpPr/>
          <p:nvPr/>
        </p:nvSpPr>
        <p:spPr>
          <a:xfrm>
            <a:off x="512640" y="1031760"/>
            <a:ext cx="46897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1. 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7750080" y="1338120"/>
            <a:ext cx="5032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0"/>
          <p:cNvSpPr/>
          <p:nvPr/>
        </p:nvSpPr>
        <p:spPr>
          <a:xfrm>
            <a:off x="714240" y="4929120"/>
            <a:ext cx="74296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225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Керівник установи головного розпорядника                                       _______________                                             _____</a:t>
            </a:r>
            <a:r>
              <a:rPr b="0" lang="uk-UA" sz="900" spc="-1" strike="noStrike" u="sng">
                <a:solidFill>
                  <a:srgbClr val="000000"/>
                </a:solidFill>
                <a:uFillTx/>
                <a:latin typeface="Times New Roman"/>
              </a:rPr>
              <a:t>  В.С.Дунайчук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бюджетних коштів__                                                                                        (підпис)                                                            (ініціали та прізвище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1"/>
          <p:cNvSpPr/>
          <p:nvPr/>
        </p:nvSpPr>
        <p:spPr>
          <a:xfrm>
            <a:off x="714240" y="5429160"/>
            <a:ext cx="75009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ПОГОДЖЕНО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Керівник фінансового органу__                                                                _______________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_____В.Г. Бортнійчук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40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підпис)                                                                     (ініціали та прізвище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9:24:04Z</dcterms:created>
  <dc:creator>Kornienko</dc:creator>
  <dc:description/>
  <dc:language>en-US</dc:language>
  <cp:lastModifiedBy>user</cp:lastModifiedBy>
  <cp:lastPrinted>2016-10-07T09:27:26Z</cp:lastPrinted>
  <dcterms:modified xsi:type="dcterms:W3CDTF">2018-02-28T10:30:42Z</dcterms:modified>
  <cp:revision>261</cp:revision>
  <dc:subject/>
  <dc:title>Слайд 1</dc:title>
</cp:coreProperties>
</file>