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№ 205 ві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09 липня 2018 р.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        від                                  р.                                                                           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27280" y="3789360"/>
            <a:ext cx="3827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539640" y="448956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2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 (0212110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3137,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3012,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25,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Підвищення рівня надання медичної допомоги та збереження здоров’я населе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88508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4653000"/>
          <a:ext cx="7632720" cy="1407960"/>
        </p:xfrm>
        <a:graphic>
          <a:graphicData uri="http://schemas.openxmlformats.org/drawingml/2006/table">
            <a:tbl>
              <a:tblPr/>
              <a:tblGrid>
                <a:gridCol w="430200"/>
                <a:gridCol w="730440"/>
                <a:gridCol w="731520"/>
                <a:gridCol w="1876680"/>
                <a:gridCol w="1355760"/>
                <a:gridCol w="1249200"/>
                <a:gridCol w="1258920"/>
              </a:tblGrid>
              <a:tr h="4172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1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37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3716280"/>
          <a:ext cx="5638680" cy="46188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95928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72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8-07-13T07:46:59Z</cp:lastPrinted>
  <dcterms:modified xsi:type="dcterms:W3CDTF">2018-07-16T07:32:19Z</dcterms:modified>
  <cp:revision>253</cp:revision>
  <dc:subject/>
  <dc:title>Слайд 1</dc:title>
</cp:coreProperties>
</file>