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Прямоугольник 1"/>
          <p:cNvSpPr/>
          <p:nvPr/>
        </p:nvSpPr>
        <p:spPr>
          <a:xfrm>
            <a:off x="5437080" y="1036800"/>
            <a:ext cx="2452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3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75"/>
              </a:lnSpc>
              <a:spcAft>
                <a:spcPts val="23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Наказ Міністерства фінансів України 26 серпня 2014 року № 83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Прямоугольник 2"/>
          <p:cNvSpPr/>
          <p:nvPr/>
        </p:nvSpPr>
        <p:spPr>
          <a:xfrm>
            <a:off x="4603680" y="1844640"/>
            <a:ext cx="4119480" cy="16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ЗАТВЕРДЖЕ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каз / 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розпорядчий документ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№    від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_</a:t>
            </a:r>
            <a:r>
              <a:rPr b="0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                  р.                 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а районна  державна адміністрація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(найменування головного розпорядника коштів місцевого бюджет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5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Наказ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Times New Roman"/>
              </a:rPr>
              <a:t>№  32       від    14.06.2018    р.                                                                            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Камінь-Каширське управління фінансів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                        (найменування місцевого фінансового органу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Прямоугольник 3"/>
          <p:cNvSpPr/>
          <p:nvPr/>
        </p:nvSpPr>
        <p:spPr>
          <a:xfrm>
            <a:off x="2627280" y="3789360"/>
            <a:ext cx="38275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1324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аспор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324"/>
              </a:lnSpc>
              <a:spcAft>
                <a:spcPts val="1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юджетної програми місцевого бюджету на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 2018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рі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Прямоугольник 4"/>
          <p:cNvSpPr/>
          <p:nvPr/>
        </p:nvSpPr>
        <p:spPr>
          <a:xfrm>
            <a:off x="539640" y="4489560"/>
            <a:ext cx="8209080" cy="16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spcBef>
                <a:spcPts val="1913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1.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(0210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головного розпорядни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2.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 (0212000) Камінь-Каширська районна державна адміністраці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(КПКВК МБ) (найменування відповідального виконавця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. (0212110) Первинна медична допомога населенн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(КПКВК МБ) (КФКВК)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(найменування бюджетної програм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1"/>
          <p:cNvSpPr/>
          <p:nvPr/>
        </p:nvSpPr>
        <p:spPr>
          <a:xfrm>
            <a:off x="4500720" y="40464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5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2"/>
          <p:cNvSpPr/>
          <p:nvPr/>
        </p:nvSpPr>
        <p:spPr>
          <a:xfrm>
            <a:off x="468360" y="765000"/>
            <a:ext cx="8136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ts val="1225"/>
              </a:lnSpc>
              <a:spcBef>
                <a:spcPts val="5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4.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Обсяг бюджетних призначень/бюджетних асигнувань –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8954,5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с. гривень, у тому числі загального фонду 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8829,5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с. гривень та спеціального фонду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125,0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ис. гривень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Підстави для виконання бюджетної програм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: Розпорядження Кабінету Міністрів України від 15.11.2017р. №821-р “Про затвердження плану заходів з реалізації Концепції реформи фінансування системи охорони здоров’я на період до 2020 року”; Наказ МОЗ №308/519 від 05.10.2005р. “Про впорядкування умов оплати праці працівників закладів охорони здоров’я та установ соціального захисту населення”; Наказ Міністерства фінансів України від 20.09.2017р. №793 “Про затвердження складових програмної класифікації видатків та кредитування місцевих бюджетів” (із змінами від 29.12.2017 №1181); Наказ Міністерства фінансів України, Міністерства охорони здоров’я України від 26 травня 2010 року №283/437 “Про затвердження Типового переліку бюджетних програм та результативних показників їх виконання для місцевих бюджетів у галузі “Охорона здоров’я”; Рішення міської ради від 21.12.2017р. №26/6 “Про місцевий бюджет на 2018 рік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6.    Мета бюджетної програми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uk-UA" sz="1000" spc="-1" strike="noStrike">
                <a:solidFill>
                  <a:srgbClr val="000000"/>
                </a:solidFill>
                <a:latin typeface="Arial"/>
              </a:rPr>
              <a:t>Підвищення рівня надання медичної допомоги та збереження здоров’я населення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ts val="188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7.    Підпрограми, спрямовані на досягнення мети, визначеної паспортом бюджетної програм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4"/>
          <p:cNvSpPr/>
          <p:nvPr/>
        </p:nvSpPr>
        <p:spPr>
          <a:xfrm>
            <a:off x="468360" y="4292640"/>
            <a:ext cx="5308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8. Обсяги фінансування бюджетної програми у розрізі підпрограм та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5"/>
          <p:cNvSpPr/>
          <p:nvPr/>
        </p:nvSpPr>
        <p:spPr>
          <a:xfrm>
            <a:off x="7885080" y="4437000"/>
            <a:ext cx="482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55640" y="4653000"/>
          <a:ext cx="7632720" cy="1407960"/>
        </p:xfrm>
        <a:graphic>
          <a:graphicData uri="http://schemas.openxmlformats.org/drawingml/2006/table">
            <a:tbl>
              <a:tblPr/>
              <a:tblGrid>
                <a:gridCol w="430200"/>
                <a:gridCol w="730440"/>
                <a:gridCol w="731520"/>
                <a:gridCol w="1876680"/>
                <a:gridCol w="1355760"/>
                <a:gridCol w="1249200"/>
                <a:gridCol w="1258920"/>
              </a:tblGrid>
              <a:tr h="417240"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144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52280" algn="just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/ завдання бюджетної програми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2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5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2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5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55640" y="3716280"/>
          <a:ext cx="5638680" cy="461880"/>
        </p:xfrm>
        <a:graphic>
          <a:graphicData uri="http://schemas.openxmlformats.org/drawingml/2006/table">
            <a:tbl>
              <a:tblPr/>
              <a:tblGrid>
                <a:gridCol w="552600"/>
                <a:gridCol w="730080"/>
                <a:gridCol w="650880"/>
                <a:gridCol w="3705120"/>
              </a:tblGrid>
              <a:tr h="1875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396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Ф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500720" y="404640"/>
            <a:ext cx="7776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986"/>
              </a:lnSpc>
              <a:spcAft>
                <a:spcPts val="6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2"/>
          <p:cNvSpPr/>
          <p:nvPr/>
        </p:nvSpPr>
        <p:spPr>
          <a:xfrm>
            <a:off x="611280" y="2205000"/>
            <a:ext cx="52354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6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0. Результативні показники бюджетної програми у розрізі підпрограм і завдан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11280" y="2421000"/>
          <a:ext cx="8137440" cy="3959280"/>
        </p:xfrm>
        <a:graphic>
          <a:graphicData uri="http://schemas.openxmlformats.org/drawingml/2006/table">
            <a:tbl>
              <a:tblPr/>
              <a:tblGrid>
                <a:gridCol w="360360"/>
                <a:gridCol w="504720"/>
                <a:gridCol w="3963960"/>
                <a:gridCol w="644400"/>
                <a:gridCol w="1960560"/>
                <a:gridCol w="703440"/>
              </a:tblGrid>
              <a:tr h="360360">
                <a:tc>
                  <a:txBody>
                    <a:bodyPr lIns="0" rIns="0" tIns="0" bIns="0" anchor="b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/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диниця вимір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жерело інформаці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чення показник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121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инна медична допомога населенню, що надається центрами первинної медичної (медико-санітарної) допомог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вдання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безпечення надання населенню первинної медичної допомоги за місцем проживання (перебування)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рат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ількість штатних одиниць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татний розпис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7,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 т.ч. лікарів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 них лікарів загальної практики – сімейний ліка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МП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ціалісті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сл.персона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дук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4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олікованих хвори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Тис.осі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016/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0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-сть прикріпленого населення на 1 лікаря, який надає первинну допомог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відник населе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едня к-сть відвідувань на 1 лікар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9/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кості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безпечення повноти охоплення профілактичними щеплення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 ф-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ізуальних форм онкозахворювань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наміка виявлених випадків туберкульозу в занедбанних стадія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віт ф-33 здоро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611280" y="907920"/>
          <a:ext cx="5638680" cy="1233720"/>
        </p:xfrm>
        <a:graphic>
          <a:graphicData uri="http://schemas.openxmlformats.org/drawingml/2006/table">
            <a:tbl>
              <a:tblPr/>
              <a:tblGrid>
                <a:gridCol w="2090520"/>
                <a:gridCol w="693720"/>
                <a:gridCol w="1000440"/>
                <a:gridCol w="923760"/>
                <a:gridCol w="930240"/>
              </a:tblGrid>
              <a:tr h="462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 регіональної цільової програми та підпрограм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marL="1652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652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гіональна цільова 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28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Прямоугольник 8"/>
          <p:cNvSpPr/>
          <p:nvPr/>
        </p:nvSpPr>
        <p:spPr>
          <a:xfrm>
            <a:off x="684360" y="692280"/>
            <a:ext cx="806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9. Перелік регіональних цільових програм, які виконуються у складі бюджетної програми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4511520" y="547560"/>
            <a:ext cx="88920" cy="1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ts val="1137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324000" y="4227480"/>
            <a:ext cx="793908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086"/>
              </a:lnSpc>
              <a:spcBef>
                <a:spcPts val="1500"/>
              </a:spcBef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Код функціональної класифікації видатків та кредитування бюджету вказується лише у випадку, коли бюджетна програма не поділяється на підпрограми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Пункт 11 заповнюється тільки для затверджених у місцевому бюджеті видатків/надання кредитів на реалізацію інвестиційних проектів (програм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986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   Прогноз видатків до кінця реалізації інвестиційного проекту зазначається з розбивкою за роками.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571680" y="5165640"/>
            <a:ext cx="796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Голова районної державної адміністрації    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                         ___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В.С.Дунайчук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27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підпис)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539640" y="5661000"/>
            <a:ext cx="80647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ts val="1225"/>
              </a:lnSpc>
              <a:spcBef>
                <a:spcPts val="2701"/>
              </a:spcBef>
              <a:spcAft>
                <a:spcPts val="10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ГОДЖЕНО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22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Начальник управління фінансів Камінь-Каширської РДА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__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_________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В.Г.Бортнійчук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137"/>
              </a:lnSpc>
              <a:spcAft>
                <a:spcPts val="40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підпис)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(ініціали та прізвище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31920" y="1585800"/>
          <a:ext cx="8362800" cy="2517840"/>
        </p:xfrm>
        <a:graphic>
          <a:graphicData uri="http://schemas.openxmlformats.org/drawingml/2006/table">
            <a:tbl>
              <a:tblPr/>
              <a:tblGrid>
                <a:gridCol w="453960"/>
                <a:gridCol w="1436760"/>
                <a:gridCol w="546120"/>
                <a:gridCol w="579240"/>
                <a:gridCol w="682560"/>
                <a:gridCol w="392040"/>
                <a:gridCol w="574920"/>
                <a:gridCol w="684000"/>
                <a:gridCol w="390600"/>
                <a:gridCol w="579600"/>
                <a:gridCol w="682560"/>
                <a:gridCol w="393840"/>
                <a:gridCol w="966600"/>
              </a:tblGrid>
              <a:tr h="471240">
                <a:tc rowSpan="2">
                  <a:txBody>
                    <a:bodyPr lIns="0" rIns="0" tIns="0" bIns="0" anchor="ctr">
                      <a:noAutofit/>
                    </a:bodyPr>
                    <a:p>
                      <a:pPr marL="15228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йменування джерел надходжен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ПКВ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асові видатки станом 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січня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 видатків звітного період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b">
                      <a:noAutofit/>
                    </a:bodyPr>
                    <a:p>
                      <a:pPr marL="190440"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ноз видатків до кінця реалізації інвестиційн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90440"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у</a:t>
                      </a:r>
                      <a:r>
                        <a:rPr b="0" lang="en-US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25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яснення, що характеризують джерела фінансуванн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г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01520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іальн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01520" algn="ctr"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онд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ts val="9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ом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79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marL="177840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ідпрограма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дходження із бюджет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2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ші джерела фінансування (за видами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Інвестиційний проект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ts val="1162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ьо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Прямоугольник 8"/>
          <p:cNvSpPr/>
          <p:nvPr/>
        </p:nvSpPr>
        <p:spPr>
          <a:xfrm>
            <a:off x="512640" y="1031760"/>
            <a:ext cx="468972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1225"/>
              </a:lnSpc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11. Джерела фінансування інвестиційних проектів у розрізі підпрограм</a:t>
            </a:r>
            <a:r>
              <a:rPr b="0" lang="en-US" sz="11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9"/>
          <p:cNvSpPr/>
          <p:nvPr/>
        </p:nvSpPr>
        <p:spPr>
          <a:xfrm>
            <a:off x="7750080" y="1338120"/>
            <a:ext cx="5032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ts val="98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(тис. грн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9:24:04Z</dcterms:created>
  <dc:creator>Kornienko</dc:creator>
  <dc:description/>
  <dc:language>en-US</dc:language>
  <cp:lastModifiedBy>user</cp:lastModifiedBy>
  <cp:lastPrinted>2018-05-16T07:34:40Z</cp:lastPrinted>
  <dcterms:modified xsi:type="dcterms:W3CDTF">2018-06-26T11:30:07Z</dcterms:modified>
  <cp:revision>254</cp:revision>
  <dc:subject/>
  <dc:title>Слайд 1</dc:title>
</cp:coreProperties>
</file>