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5437080" y="1036800"/>
            <a:ext cx="24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75"/>
              </a:lnSpc>
              <a:spcAft>
                <a:spcPts val="23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Наказ Міністерства фінансів України 26 серпня 2014 року № 8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Прямоугольник 2"/>
          <p:cNvSpPr/>
          <p:nvPr/>
        </p:nvSpPr>
        <p:spPr>
          <a:xfrm>
            <a:off x="4603680" y="1844640"/>
            <a:ext cx="411948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Наказ /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розпорядчий документ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№126 ві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25.04.2018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р.        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Камінь-Каширська районна  державна адміністрація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(найменування головного розпорядника коштів місцевого бюджет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аказ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№  21 від 25.04.2018р.                                                                  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Камінь-Каширське управління фінансів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    (найменування місцевого фінансового орган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Прямоугольник 3"/>
          <p:cNvSpPr/>
          <p:nvPr/>
        </p:nvSpPr>
        <p:spPr>
          <a:xfrm>
            <a:off x="2627280" y="3789360"/>
            <a:ext cx="3827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аспор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24"/>
              </a:lnSpc>
              <a:spcAft>
                <a:spcPts val="1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бюджетної програми місцевого бюджету на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2018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рі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Прямоугольник 4"/>
          <p:cNvSpPr/>
          <p:nvPr/>
        </p:nvSpPr>
        <p:spPr>
          <a:xfrm>
            <a:off x="539640" y="4489560"/>
            <a:ext cx="820908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spcBef>
                <a:spcPts val="1913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1.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(0210000) Камінь-Каширська районна державна адміністраці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головного розпорядни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2.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 (0212000) Камінь-Каширська районна державна адміністраці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відповідального виконавц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. (0212110) Первинна медична допомога населенн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КФКВК)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(найменування бюджетної програм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4500720" y="40464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468360" y="765000"/>
            <a:ext cx="8136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ts val="1225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.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Обсяг бюджетних призначень/бюджетних асигнувань 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908,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тис. гривень, у тому числі загального фонду –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783,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тис. гривень та спеціального фонду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5,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тис. гривен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Підстави для виконання бюджетної програм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Розпорядження Кабінету Міністрів України від 15.11.2017р. №821-р “Про затвердження плану заходів з реалізації Концепції реформи фінансування системи охорони здоров’я на період до 2020 року”; Наказ МОЗ №308/519 від 05.10.2005р. “Про впорядкування умов оплати праці працівників закладів охорони здоров’я та установ соціального захисту населення”; Наказ Міністерства фінансів України від 20.09.2017р. №793 “Про затвердження складових програмної класифікації видатків та кредитування місцевих бюджетів” (із змінами від 29.12.2017 №1181); Наказ Міністерства фінансів України, Міністерства охорони здоров’я України від 26 травня 2010 року №283/437 “Про затвердження Типового переліку бюджетних програм та результативних показників їх виконання для місцевих бюджетів у галузі “Охорона здоров’я”; Рішення міської ради від 21.12.2017р. №26/6 “Про місцевий бюджет на 2018 рік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6.    Мета бюджетної програм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uk-UA" sz="1000" spc="-1" strike="noStrike">
                <a:solidFill>
                  <a:srgbClr val="000000"/>
                </a:solidFill>
                <a:latin typeface="Arial"/>
              </a:rPr>
              <a:t>Підвищення рівня надання медичної допомоги та збереження здоров’я населення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7.    Підпрограми, спрямовані на досягнення мети, визначеної паспортом бюджетної прог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68360" y="4292640"/>
            <a:ext cx="53085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8. Обсяги фінансування бюджетної програми у розрізі підпрограм та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7885080" y="4437000"/>
            <a:ext cx="4827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55640" y="4653000"/>
          <a:ext cx="7632720" cy="1405080"/>
        </p:xfrm>
        <a:graphic>
          <a:graphicData uri="http://schemas.openxmlformats.org/drawingml/2006/table">
            <a:tbl>
              <a:tblPr/>
              <a:tblGrid>
                <a:gridCol w="430200"/>
                <a:gridCol w="730440"/>
                <a:gridCol w="731520"/>
                <a:gridCol w="1876680"/>
                <a:gridCol w="1355760"/>
                <a:gridCol w="1249200"/>
                <a:gridCol w="1258920"/>
              </a:tblGrid>
              <a:tr h="415080"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52280" algn="just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/ завдання бюджетної програми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560"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2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нна медична допомога населенню, що надається центрами первинної медичної (медико-санітарної) допомо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8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0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8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0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55640" y="3716280"/>
          <a:ext cx="5638680" cy="460440"/>
        </p:xfrm>
        <a:graphic>
          <a:graphicData uri="http://schemas.openxmlformats.org/drawingml/2006/table">
            <a:tbl>
              <a:tblPr/>
              <a:tblGrid>
                <a:gridCol w="552600"/>
                <a:gridCol w="730080"/>
                <a:gridCol w="650880"/>
                <a:gridCol w="3705120"/>
              </a:tblGrid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2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нна медична допомога населенню, що надається центрами первинної медичної (медико-санітарної) допомо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500720" y="404640"/>
            <a:ext cx="77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6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611280" y="2205000"/>
            <a:ext cx="52354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0. Результативні показники бюджетної програми у розрізі підпрограм і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11280" y="2421000"/>
          <a:ext cx="8137440" cy="3952800"/>
        </p:xfrm>
        <a:graphic>
          <a:graphicData uri="http://schemas.openxmlformats.org/drawingml/2006/table">
            <a:tbl>
              <a:tblPr/>
              <a:tblGrid>
                <a:gridCol w="360360"/>
                <a:gridCol w="504720"/>
                <a:gridCol w="3963960"/>
                <a:gridCol w="644400"/>
                <a:gridCol w="1960560"/>
                <a:gridCol w="703440"/>
              </a:tblGrid>
              <a:tr h="3603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 вимір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 інформ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чення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2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нна медична допомога населенню, що надається центрами первинної медичної (медико-санітарної) допомо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дання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ення надання населенню первинної медичної допомоги за місцем проживання (перебування)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ра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лькість штатних одиниць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тний розпи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,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т.ч. лікарів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 них лікарів загальної практики – сімейний ліка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іалісті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л.персона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сть прикріпленого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і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відник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4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сть пролікованих хвор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ис.осі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016/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фективн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сть прикріпленого населення на 1 лікаря, який надає первинну допомог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відник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дня к-сть відвідувань на 1 лікар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39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к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безпечення повноти охоплення профілактичними щеплення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 ф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іка виявлених візуальних форм онкозахворювань в занедбанних стадія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іка виявлених випадків туберкульозу в занедбанних стадія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33 здор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11280" y="907920"/>
          <a:ext cx="5638680" cy="1233360"/>
        </p:xfrm>
        <a:graphic>
          <a:graphicData uri="http://schemas.openxmlformats.org/drawingml/2006/table">
            <a:tbl>
              <a:tblPr/>
              <a:tblGrid>
                <a:gridCol w="2090520"/>
                <a:gridCol w="693720"/>
                <a:gridCol w="1000440"/>
                <a:gridCol w="923760"/>
                <a:gridCol w="930240"/>
              </a:tblGrid>
              <a:tr h="46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регіональної цільової програми т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іональна цільова 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Прямоугольник 8"/>
          <p:cNvSpPr/>
          <p:nvPr/>
        </p:nvSpPr>
        <p:spPr>
          <a:xfrm>
            <a:off x="684360" y="692280"/>
            <a:ext cx="806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9. Перелік регіональних цільових програм, які виконуються у складі бюджетної програми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4511520" y="54756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24000" y="4227480"/>
            <a:ext cx="79390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086"/>
              </a:lnSpc>
              <a:spcBef>
                <a:spcPts val="1500"/>
              </a:spcBef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Код функціональної класифікації видатків та кредитування бюджету вказується лише у випадку, коли бюджетна програма не поділяється на під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ункт 11 заповнюється тільки для затверджених у місцевому бюджеті видатків/надання кредитів на реалізацію інвестиційних проектів (програм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рогноз видатків до кінця реалізації інвестиційного проекту зазначається з розбивкою за роками.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571680" y="5165640"/>
            <a:ext cx="796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Голова районної державної адміністрації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_________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В.С.Дунайчук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підпис)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ініціали та прізвищ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539640" y="5661000"/>
            <a:ext cx="80647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ПОГОДЖЕНО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Начальник управління фінансів Камінь-Каширської РДА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________  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В.Г.Бортнійчук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40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підпис)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(ініціали та прізвищ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31920" y="1585800"/>
          <a:ext cx="8362800" cy="2517840"/>
        </p:xfrm>
        <a:graphic>
          <a:graphicData uri="http://schemas.openxmlformats.org/drawingml/2006/table">
            <a:tbl>
              <a:tblPr/>
              <a:tblGrid>
                <a:gridCol w="453960"/>
                <a:gridCol w="1436760"/>
                <a:gridCol w="546120"/>
                <a:gridCol w="579240"/>
                <a:gridCol w="682560"/>
                <a:gridCol w="392040"/>
                <a:gridCol w="574920"/>
                <a:gridCol w="684000"/>
                <a:gridCol w="390600"/>
                <a:gridCol w="579600"/>
                <a:gridCol w="682560"/>
                <a:gridCol w="393840"/>
                <a:gridCol w="966600"/>
              </a:tblGrid>
              <a:tr h="471240">
                <a:tc rowSpan="2">
                  <a:txBody>
                    <a:bodyPr lIns="0" rIns="0" tIns="0" bIns="0" anchor="ctr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менування джерел надходж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станом 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січня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видатків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190440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 видатків до кінця реалізації інвестицій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у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, що характеризують джерела фінансува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ходження із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джерела фінансування (за вид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Прямоугольник 8"/>
          <p:cNvSpPr/>
          <p:nvPr/>
        </p:nvSpPr>
        <p:spPr>
          <a:xfrm>
            <a:off x="512640" y="1031760"/>
            <a:ext cx="46897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1. Джерела фінансування інвестиційних проектів у розрізі підпрограм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7750080" y="1338120"/>
            <a:ext cx="5032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9:24:04Z</dcterms:created>
  <dc:creator>Kornienko</dc:creator>
  <dc:description/>
  <dc:language>en-US</dc:language>
  <cp:lastModifiedBy>user</cp:lastModifiedBy>
  <cp:lastPrinted>2016-10-07T09:27:26Z</cp:lastPrinted>
  <dcterms:modified xsi:type="dcterms:W3CDTF">2018-05-07T12:02:01Z</dcterms:modified>
  <cp:revision>251</cp:revision>
  <dc:subject/>
  <dc:title>Слайд 1</dc:title>
</cp:coreProperties>
</file>