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каз /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розпорядчий докумен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№ 367 ві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1.12.2017р.    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 адміністрація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аказ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№ 77 від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21.12.2017р.                                                              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2017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3)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312180) Камінь-Каширський центр первинної медико-санітарної допомог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. (0726) Первинна медична допомога населенн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765000"/>
            <a:ext cx="8136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615,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, у тому числі загального фонду 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124,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 та спеціального фонду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91,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Конституція України, Бюджетний Кодекс України, Закон України “Про Державний бюджет України на 2017 рік”, Закон Україн “Про місцеві державні адміністрації в Україні”, Закон України “Про місцеве самоврадування в Україні”, Закон України “Основи законодавства України про охорону здоров’я” № 2801-ХІІ від 19.11.1992 року”, постанова Кабінету Міністрів України від 28.02.2002 року № 228 “Прозатвердження Порядку складання, розгляду, затвердження та основних вимог до виконання кошторисів бюджетних установ”, наказ Міністерства охорони здоров’я України від 05.10.2005 року №308/519 “Про упорядкування умов оплати праці працівників закладів охорони здоров’я та установ соціального захисту населення”, постанова Кабінету Міністрів України від 29.12.2009 року № 1418 “Про затвердження порядку виплати надбавки за вислугу років лікарям і фахівцям з базовою та неповною вищою медичною освітою державних та комунальних закладів охорони здоров’я”, Наказ Міністерства фінансів України, Міністерства охорони здоров’я України від 26.05.2010 року № 283/437 “Про затвердження Типового переліку бюджетних програм та результативних показників їх виконання для місцевих бюджетів галузі “Охорони здоров’я”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   Мета бюджетної прогр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uk-UA" sz="1000" spc="-1" strike="noStrike">
                <a:solidFill>
                  <a:srgbClr val="000000"/>
                </a:solidFill>
                <a:latin typeface="Arial"/>
              </a:rPr>
              <a:t>Зміцнення та поліпшення здоров’я населення шляхом забезпечення потреб населення у первинній медичній допомозі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508464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5651640" y="5589720"/>
            <a:ext cx="4824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5300640"/>
          <a:ext cx="5637240" cy="1131840"/>
        </p:xfrm>
        <a:graphic>
          <a:graphicData uri="http://schemas.openxmlformats.org/drawingml/2006/table">
            <a:tbl>
              <a:tblPr/>
              <a:tblGrid>
                <a:gridCol w="317520"/>
                <a:gridCol w="539640"/>
                <a:gridCol w="539640"/>
                <a:gridCol w="1386000"/>
                <a:gridCol w="1001880"/>
                <a:gridCol w="922320"/>
                <a:gridCol w="930240"/>
              </a:tblGrid>
              <a:tr h="41544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2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2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84360" y="4653000"/>
          <a:ext cx="5638680" cy="37764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650880"/>
                <a:gridCol w="3705120"/>
              </a:tblGrid>
              <a:tr h="18684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2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11280" y="220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421000"/>
          <a:ext cx="8137440" cy="3816000"/>
        </p:xfrm>
        <a:graphic>
          <a:graphicData uri="http://schemas.openxmlformats.org/drawingml/2006/table">
            <a:tbl>
              <a:tblPr/>
              <a:tblGrid>
                <a:gridCol w="360360"/>
                <a:gridCol w="504720"/>
                <a:gridCol w="3963960"/>
                <a:gridCol w="644400"/>
                <a:gridCol w="1960560"/>
                <a:gridCol w="703440"/>
              </a:tblGrid>
              <a:tr h="3603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дання населенню первинної медичної допомоги за місцем проживання (перебування)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р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штатних одиниц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тний розп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 лікарі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лікарів загальної практики – сімейний лік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іс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.персон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олікованих хвор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с.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016/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 на 1 лікаря, який надає первинну допомог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к-сть відвідувань на 1 лік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9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ня повноти охоплення профілактичними щепленн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 ф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ізуальних форм онкозахворювань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ипадків туберкульозу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3 зд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1280" y="907920"/>
          <a:ext cx="5638680" cy="123336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684360" y="69228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7-12-28T10:10:31Z</dcterms:modified>
  <cp:revision>240</cp:revision>
  <dc:subject/>
  <dc:title>Слайд 1</dc:title>
</cp:coreProperties>
</file>