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розпорядчий документ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____________ №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7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)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12180) Камінь-Каширський центр первинної медико-санітарної допомо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316410) Реалізація інвестиційних проекті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836640"/>
            <a:ext cx="78184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,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по спеціфльному фон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225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225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Конституція України, Бюджетний Кодекс України, Закон України “Про Державний бюджет України на 2017 рік”, Закон Україн “Про місцеві державні адміністрації в Україні”, Закон України “Про місцеве самоврадування в Україні”, постанова Кабінету Міністрів України від 28.02.2002 року №228 “Прозатвердження Порядку складання, розгляду, затвердження та основних вимог до виконання кошторисів бюджетних установ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225"/>
              </a:lnSpc>
              <a:spcBef>
                <a:spcPts val="53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225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Заміна вікон, виготовлення проектно-кошторисної документації, придбання медичного обладна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95280" y="378936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516720" y="450864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4149720"/>
          <a:ext cx="6480000" cy="1872720"/>
        </p:xfrm>
        <a:graphic>
          <a:graphicData uri="http://schemas.openxmlformats.org/drawingml/2006/table">
            <a:tbl>
              <a:tblPr/>
              <a:tblGrid>
                <a:gridCol w="374400"/>
                <a:gridCol w="636840"/>
                <a:gridCol w="515880"/>
                <a:gridCol w="1585800"/>
                <a:gridCol w="1182600"/>
                <a:gridCol w="1087560"/>
                <a:gridCol w="1096920"/>
              </a:tblGrid>
              <a:tr h="52668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іна віко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готовлення проектно-         кошторисної документ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медичного обладн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826920" y="3213000"/>
          <a:ext cx="5639040" cy="378000"/>
        </p:xfrm>
        <a:graphic>
          <a:graphicData uri="http://schemas.openxmlformats.org/drawingml/2006/table">
            <a:tbl>
              <a:tblPr/>
              <a:tblGrid>
                <a:gridCol w="552600"/>
                <a:gridCol w="730440"/>
                <a:gridCol w="650880"/>
                <a:gridCol w="3705120"/>
              </a:tblGrid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357336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076640"/>
          <a:ext cx="7704360" cy="1814400"/>
        </p:xfrm>
        <a:graphic>
          <a:graphicData uri="http://schemas.openxmlformats.org/drawingml/2006/table">
            <a:tbl>
              <a:tblPr/>
              <a:tblGrid>
                <a:gridCol w="360360"/>
                <a:gridCol w="576360"/>
                <a:gridCol w="3456000"/>
                <a:gridCol w="1008000"/>
                <a:gridCol w="1079640"/>
                <a:gridCol w="1224000"/>
              </a:tblGrid>
              <a:tr h="49500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4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ізація інвестиційних проек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шення сесії №25/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іна вік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готовлення проектно-кошторисної документ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медичного обладн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1773360"/>
          <a:ext cx="5638680" cy="151092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539640" y="1268280"/>
            <a:ext cx="806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96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7-11-06T13:35:09Z</dcterms:modified>
  <cp:revision>242</cp:revision>
  <dc:subject/>
  <dc:title>Слайд 1</dc:title>
</cp:coreProperties>
</file>