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437080" y="1036800"/>
            <a:ext cx="24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23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4603680" y="1844640"/>
            <a:ext cx="41194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Розпорядження №</a:t>
            </a:r>
            <a:r>
              <a:rPr b="0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</a:t>
            </a: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 від ___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Камінь-Каширська районна державна адміністрація                                                      </a:t>
            </a: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( найменування головного розпорядника коштів місцевого бюджет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0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аказ _Управління фінансів К-Каширської РДА              </a:t>
            </a: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(найменування місцевого фінансового орган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__20.10.2017 р</a:t>
            </a: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________________ №__59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3"/>
          <p:cNvSpPr/>
          <p:nvPr/>
        </p:nvSpPr>
        <p:spPr>
          <a:xfrm>
            <a:off x="2617920" y="3860640"/>
            <a:ext cx="3827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24"/>
              </a:lnSpc>
              <a:spcAft>
                <a:spcPts val="1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бюджетної програми місцевого бюджету на 2017рі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4"/>
          <p:cNvSpPr/>
          <p:nvPr/>
        </p:nvSpPr>
        <p:spPr>
          <a:xfrm>
            <a:off x="797040" y="4489560"/>
            <a:ext cx="768024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</a:rPr>
              <a:t>1.   0300000   __Камінь-Каширська районна державна адміністрація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головного розпорядни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</a:rPr>
              <a:t>2.   0310000___Камінь-Каширська районна державна адміністрація 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відповідального виконавц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</a:rPr>
              <a:t>3.__</a:t>
            </a:r>
            <a:r>
              <a:rPr b="0" lang="uk-UA" sz="1100" spc="-1" strike="noStrike" u="sng">
                <a:solidFill>
                  <a:srgbClr val="000000"/>
                </a:solidFill>
                <a:uFillTx/>
                <a:latin typeface="Times New Roman"/>
              </a:rPr>
              <a:t>0317330        0421    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</a:rPr>
              <a:t>_ </a:t>
            </a: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програми</a:t>
            </a:r>
            <a:r>
              <a:rPr b="0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_Програма в галузі сільського господарства, лісового господарства, мисливства та рибальств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</a:rPr>
              <a:t>(КПКВК МБ) (КФКВК)</a:t>
            </a:r>
            <a:r>
              <a:rPr b="0" lang="uk-UA" sz="11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</a:rPr>
              <a:t> (найменування бюджетної програм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511520" y="549360"/>
            <a:ext cx="889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684360" y="1204920"/>
            <a:ext cx="77454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</a:rPr>
              <a:t>4.    Обсяг бюджетних призначень/бюджетних асигнувань – 50,2 тис. гривень, у тому числі загального фонду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</a:rPr>
              <a:t>50,2 тис.  гривень та спеціального фонду  _____________ тис. гривен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</a:rPr>
              <a:t>5.Підстави для виконання бюджетної програми :   рішення  районної ради   від 20.10.2017 року №25/2,Конституція України (Закон від 28.06.1996 р. №254/96 ;Бюджетний кодекс України від 08.07.2010 р. №2456-УІ (зі змінами та доповненнями Наказу МФУ від 02.12.2014 р.№195 “Про затвердження структури кодування програмної класифікації видатків та кредитування місцевих бюджетів і типової програмної класифікації видатків та кредитування місцевих бюджетів,які не використовують програмно-цільового методу (зі змінами від 04.02.2016 р. №34 та від 03.06.2016 . №526 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</a:rPr>
              <a:t>Мета бюджетної програми :   </a:t>
            </a: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Сприяння безперешкодній діяльності засобів масової інформації,утвердження свободи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слова та розвитку медіапростору ,забезпечення конституційного права громадян України на інформацію ,відкритості і прозорості діяльності органів влади , інформаційної безпеки та реалізації державної інформаційної політики на території району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</a:rPr>
              <a:t>Підпрограми, спрямовані на досягнення мети, визначеної паспортом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826920" y="3767040"/>
            <a:ext cx="530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Обсяги фінансування бюджетної програми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728640" y="4425840"/>
            <a:ext cx="5307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63400" y="4149720"/>
          <a:ext cx="5637240" cy="1676520"/>
        </p:xfrm>
        <a:graphic>
          <a:graphicData uri="http://schemas.openxmlformats.org/drawingml/2006/table">
            <a:tbl>
              <a:tblPr/>
              <a:tblGrid>
                <a:gridCol w="317520"/>
                <a:gridCol w="540000"/>
                <a:gridCol w="539640"/>
                <a:gridCol w="2611440"/>
                <a:gridCol w="576360"/>
                <a:gridCol w="647640"/>
                <a:gridCol w="404640"/>
              </a:tblGrid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52280" algn="just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 завдання бюджетної програми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173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17330-Програма в галузі сільського господарства, лісового господарства, мисливства та рибаль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плата дотації власникам ОСГ, які утримують 3 і більше ко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4514760" y="549360"/>
            <a:ext cx="777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857160" y="2500200"/>
            <a:ext cx="523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. Результативні показники бюджетної програми у розрізі підпрограм і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2997360"/>
          <a:ext cx="7216920" cy="4246560"/>
        </p:xfrm>
        <a:graphic>
          <a:graphicData uri="http://schemas.openxmlformats.org/drawingml/2006/table">
            <a:tbl>
              <a:tblPr/>
              <a:tblGrid>
                <a:gridCol w="750960"/>
                <a:gridCol w="690480"/>
                <a:gridCol w="1614600"/>
                <a:gridCol w="1461960"/>
                <a:gridCol w="1374840"/>
                <a:gridCol w="1324080"/>
              </a:tblGrid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оказни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 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ня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173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а в галузі сільського господарства, лісового господарства, мисливства та рибаль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фінансового ресурсу на реалізацію заход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ори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власників ОСГ, які утримують 3 і більше корі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ісяч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ост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я витрата на 1 коров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 бухобліку (оборотно-сальдова відомі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тність устан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ост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зростання витрат на обслуговування   договору порівнянно з попереднім рок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о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тність устан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11280" y="1214280"/>
          <a:ext cx="7200720" cy="1244880"/>
        </p:xfrm>
        <a:graphic>
          <a:graphicData uri="http://schemas.openxmlformats.org/drawingml/2006/table">
            <a:tbl>
              <a:tblPr/>
              <a:tblGrid>
                <a:gridCol w="2066760"/>
                <a:gridCol w="730440"/>
                <a:gridCol w="1004760"/>
                <a:gridCol w="927000"/>
                <a:gridCol w="2471760"/>
              </a:tblGrid>
              <a:tr h="33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а підтримки особистих селянських господарств у Камінь-Каширському районі на 2016-2020 роки”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173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Прямоугольник 8"/>
          <p:cNvSpPr/>
          <p:nvPr/>
        </p:nvSpPr>
        <p:spPr>
          <a:xfrm>
            <a:off x="714240" y="928800"/>
            <a:ext cx="58755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9. Перелік регіональних цільових програм, які виконуються у складі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511520" y="549360"/>
            <a:ext cx="889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324000" y="4227480"/>
            <a:ext cx="7939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spcBef>
                <a:spcPts val="1500"/>
              </a:spcBef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11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рогноз видатків до кінця реалізації інвестиційного проекту зазначається з розбивкою за рок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31920" y="1585800"/>
          <a:ext cx="8362800" cy="2517840"/>
        </p:xfrm>
        <a:graphic>
          <a:graphicData uri="http://schemas.openxmlformats.org/drawingml/2006/table">
            <a:tbl>
              <a:tblPr/>
              <a:tblGrid>
                <a:gridCol w="453960"/>
                <a:gridCol w="1436760"/>
                <a:gridCol w="546120"/>
                <a:gridCol w="579240"/>
                <a:gridCol w="682560"/>
                <a:gridCol w="392040"/>
                <a:gridCol w="574920"/>
                <a:gridCol w="684000"/>
                <a:gridCol w="390600"/>
                <a:gridCol w="579600"/>
                <a:gridCol w="682560"/>
                <a:gridCol w="393840"/>
                <a:gridCol w="966600"/>
              </a:tblGrid>
              <a:tr h="4712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1904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у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, що характеризують джерела фінанс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Прямоугольник 8"/>
          <p:cNvSpPr/>
          <p:nvPr/>
        </p:nvSpPr>
        <p:spPr>
          <a:xfrm>
            <a:off x="512640" y="1033560"/>
            <a:ext cx="46897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. 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7750080" y="1338120"/>
            <a:ext cx="503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714240" y="4929120"/>
            <a:ext cx="7429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225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Голова райдержадміністрації                                                         _______________                                             _____</a:t>
            </a:r>
            <a:r>
              <a:rPr b="0" lang="uk-UA" sz="900" spc="-1" strike="noStrike" u="sng">
                <a:solidFill>
                  <a:srgbClr val="000000"/>
                </a:solidFill>
                <a:uFillTx/>
                <a:latin typeface="Times New Roman"/>
              </a:rPr>
              <a:t> В.С.Дунайчук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(підпис)                                                            (ініціали та прізвище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1"/>
          <p:cNvSpPr/>
          <p:nvPr/>
        </p:nvSpPr>
        <p:spPr>
          <a:xfrm>
            <a:off x="714240" y="5429160"/>
            <a:ext cx="7500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Керівник фінансового органу__                                                                _______________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_____В.Г. Бортнійчук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40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підпис)                                                                     (ініціали та прізвище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user</cp:lastModifiedBy>
  <cp:lastPrinted>2016-10-07T09:27:26Z</cp:lastPrinted>
  <dcterms:modified xsi:type="dcterms:W3CDTF">2017-11-06T13:41:05Z</dcterms:modified>
  <cp:revision>263</cp:revision>
  <dc:subject/>
  <dc:title>Слайд 1</dc:title>
</cp:coreProperties>
</file>