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каз / розпорядчий документ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№         ві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а районна  державна адміністрація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(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аказ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№         від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е управління фінансі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2017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3)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312180) Камінь-Каширський центр первинної медико-санітарної допомог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. (0726) Первинна медична допомога населенн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00720" y="4046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68360" y="765000"/>
            <a:ext cx="8136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95,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, у тому числі загального фонду –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102,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 та спеціального фонду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92,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ідстави для виконання бюджетної програм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Конституція України, Бюджетний Кодекс України, Закон України “Про Державний бюджет України на 2017 рік”, Закон Україн “Про місцеві державні адміністрації в Україні”, Закон України “Про місцеве самоврадування в Україні”, Закон України “Основи законодавства України про охорону здоров’я” № 2801-ХІІ від 19.11.1992 року”, постанова Кабінету Міністрів України від 28.02.2002 року № 228 “Прозатвердження Порядку складання, розгляду, затвердження та основних вимог до виконання кошторисів бюджетних установ”, наказ Міністерства охорони здоров’я України від 05.10.2005 року №308/519 “Про упорядкування умов оплати праці працівників закладів охорони здоров’я та установ соціального захисту населення”, постанова Кабінету Міністрів України від 29.12.2009 року № 1418 “Про затвердження порядку виплати надбавки за вислугу років лікарям і фахівцям з базовою та неповною вищою медичною освітою державних та комунальних закладів охорони здоров’я”, Наказ Міністерства фінансів України, Міністерства охорони здоров’я України від 26.05.2010 року № 283/437 “Про затвердження Типового переліку бюджетних програм та результативних показників їх виконання для місцевих бюджетів галузі “Охорони здоров’я”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   Мета бюджетної програм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uk-UA" sz="1000" spc="-1" strike="noStrike">
                <a:solidFill>
                  <a:srgbClr val="000000"/>
                </a:solidFill>
                <a:latin typeface="Arial"/>
              </a:rPr>
              <a:t>Зміцнення та поліпшення здоров’я населення шляхом забезпечення потреб населення у первинній медичній допомозі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   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8360" y="5084640"/>
            <a:ext cx="5308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5651640" y="558972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4360" y="5300640"/>
          <a:ext cx="5637240" cy="1131840"/>
        </p:xfrm>
        <a:graphic>
          <a:graphicData uri="http://schemas.openxmlformats.org/drawingml/2006/table">
            <a:tbl>
              <a:tblPr/>
              <a:tblGrid>
                <a:gridCol w="317520"/>
                <a:gridCol w="539640"/>
                <a:gridCol w="539640"/>
                <a:gridCol w="1386000"/>
                <a:gridCol w="1001880"/>
                <a:gridCol w="922320"/>
                <a:gridCol w="930240"/>
              </a:tblGrid>
              <a:tr h="41544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2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0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9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0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9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84360" y="4653000"/>
          <a:ext cx="5638680" cy="377640"/>
        </p:xfrm>
        <a:graphic>
          <a:graphicData uri="http://schemas.openxmlformats.org/drawingml/2006/table">
            <a:tbl>
              <a:tblPr/>
              <a:tblGrid>
                <a:gridCol w="552600"/>
                <a:gridCol w="730080"/>
                <a:gridCol w="650880"/>
                <a:gridCol w="3705120"/>
              </a:tblGrid>
              <a:tr h="18684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2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00720" y="40464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611280" y="2205000"/>
            <a:ext cx="5235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11280" y="2421000"/>
          <a:ext cx="8137440" cy="3816000"/>
        </p:xfrm>
        <a:graphic>
          <a:graphicData uri="http://schemas.openxmlformats.org/drawingml/2006/table">
            <a:tbl>
              <a:tblPr/>
              <a:tblGrid>
                <a:gridCol w="360360"/>
                <a:gridCol w="504720"/>
                <a:gridCol w="3963960"/>
                <a:gridCol w="644400"/>
                <a:gridCol w="1960560"/>
                <a:gridCol w="703440"/>
              </a:tblGrid>
              <a:tr h="3603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надання населенню первинної медичної допомоги за місцем проживання (перебування)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ра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штатних одиниць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тний розп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 лікарі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них лікарів загальної практики – сімейний ліка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іст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.персона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олікованих хвор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ис.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016/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 на 1 лікаря, який надає первинну допомог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я к-сть відвідувань на 1 лікар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9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езпечення повноти охоплення профілактичними щеплення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 ф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ізуальних форм онкозахворювань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ипадків туберкульозу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3 здо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11280" y="907920"/>
          <a:ext cx="5638680" cy="1233360"/>
        </p:xfrm>
        <a:graphic>
          <a:graphicData uri="http://schemas.openxmlformats.org/drawingml/2006/table">
            <a:tbl>
              <a:tblPr/>
              <a:tblGrid>
                <a:gridCol w="2090520"/>
                <a:gridCol w="693720"/>
                <a:gridCol w="1000440"/>
                <a:gridCol w="923760"/>
                <a:gridCol w="930240"/>
              </a:tblGrid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684360" y="69228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571680" y="5165640"/>
            <a:ext cx="796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Голова районної державної адміністрації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_________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С.Дуна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39640" y="5661000"/>
            <a:ext cx="8064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ачальник управління фінансів Камінь-Каширської РДА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Г.Бортні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6-10-07T09:27:26Z</cp:lastPrinted>
  <dcterms:modified xsi:type="dcterms:W3CDTF">2017-11-06T13:35:30Z</dcterms:modified>
  <cp:revision>237</cp:revision>
  <dc:subject/>
  <dc:title>Слайд 1</dc:title>
</cp:coreProperties>
</file>