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розпорядчий документ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____________ №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7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)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12180) Камінь-Каширський центр первинної медико-санітарної допомо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312220) Інші заходи в галузі охорони здоров’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836640"/>
            <a:ext cx="78184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8,7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по загальному фон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Конституція України, Бюджетний Кодекс України, Закон України “Про Державний бюджет України на 2017 рік”, Закон Україн “Про місцеві державні адміністрації в Україні”, Закон України “Про місцеве самоврадування в Україні”, Закон України “Основи законодавства України про охорону здоров’я” №2801-ХІІ від 19.11.1992 року”, постанова Кабінету Міністрів України від 28.02.2002 року №228 “Прозатвердження Порядку складання, розгляду, затвердження та основних вимог до виконання кошторисів бюджетних установ”, наказ Міністерства охорони здоров’я України від 05.10.2005 року №308/519 “Про упорядкування умов оплати праці працівників закладів охорони здоров’я та установ соціального захисту населення”, постанова Кабінету Міністрів України від 29.12.2009 року №1418 “Про затвердження порядку виплати надбавки за вислугу років лікарям і фахівцям з базовою та неповною вищою медичною освітою державних та комунальних закладів охорони здоров’я”, Наказ Міністерства фінансів України, Міністерства охорони здоров’я України від 26.05.2010 року №283/437 “Про затвердження Типового переліку бюджетних програм та результативних показників їх виконання для місцевих бюджетів галузі “Охорони здоров’я”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Забезпечення проведення окремих заходів з метою підвищення рівня надання медичної допомоги населенн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501336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372360" y="5445000"/>
            <a:ext cx="482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157720"/>
          <a:ext cx="6480000" cy="1131840"/>
        </p:xfrm>
        <a:graphic>
          <a:graphicData uri="http://schemas.openxmlformats.org/drawingml/2006/table">
            <a:tbl>
              <a:tblPr/>
              <a:tblGrid>
                <a:gridCol w="374400"/>
                <a:gridCol w="636840"/>
                <a:gridCol w="515880"/>
                <a:gridCol w="1585800"/>
                <a:gridCol w="1182600"/>
                <a:gridCol w="1087560"/>
                <a:gridCol w="1096920"/>
              </a:tblGrid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програми формуються з урахуванням особливостей кожного окремого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4360" y="4437000"/>
          <a:ext cx="5638680" cy="460440"/>
        </p:xfrm>
        <a:graphic>
          <a:graphicData uri="http://schemas.openxmlformats.org/drawingml/2006/table">
            <a:tbl>
              <a:tblPr/>
              <a:tblGrid>
                <a:gridCol w="552240"/>
                <a:gridCol w="730440"/>
                <a:gridCol w="650880"/>
                <a:gridCol w="3705120"/>
              </a:tblGrid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програми формуються з урахуванням особливостей кожного окремого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364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221000"/>
          <a:ext cx="7704360" cy="954360"/>
        </p:xfrm>
        <a:graphic>
          <a:graphicData uri="http://schemas.openxmlformats.org/drawingml/2006/table">
            <a:tbl>
              <a:tblPr/>
              <a:tblGrid>
                <a:gridCol w="360360"/>
                <a:gridCol w="576360"/>
                <a:gridCol w="3456000"/>
                <a:gridCol w="1008000"/>
                <a:gridCol w="1079640"/>
                <a:gridCol w="1224000"/>
              </a:tblGrid>
              <a:tr h="36000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заходи в галузі охорони здоров’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і 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177336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539640" y="1268280"/>
            <a:ext cx="806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4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виконання паспорта бюджетної програми місцевого бюджету станом на  2017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15920" y="2940120"/>
          <a:ext cx="6572160" cy="146052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3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Районна державна адміністрація    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218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ий центр первинної медико-санітарної допомоги 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__0726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винна медична допомога населенню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 (КФКВК)1 (найменування бюджетної прогр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Видатки та надання кредитів за бюджетною програмою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8055000" y="4784760"/>
            <a:ext cx="50004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2600" y="4913280"/>
          <a:ext cx="8055000" cy="744480"/>
        </p:xfrm>
        <a:graphic>
          <a:graphicData uri="http://schemas.openxmlformats.org/drawingml/2006/table">
            <a:tbl>
              <a:tblPr/>
              <a:tblGrid>
                <a:gridCol w="896760"/>
                <a:gridCol w="1073160"/>
                <a:gridCol w="806400"/>
                <a:gridCol w="951120"/>
                <a:gridCol w="1096920"/>
                <a:gridCol w="652320"/>
                <a:gridCol w="868320"/>
                <a:gridCol w="1032120"/>
                <a:gridCol w="677880"/>
              </a:tblGrid>
              <a:tr h="14796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8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8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755640" y="907920"/>
            <a:ext cx="6175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Обсяги фінансування бюджетної програми за звітний період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805032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2880" y="1222200"/>
          <a:ext cx="8053560" cy="2413080"/>
        </p:xfrm>
        <a:graphic>
          <a:graphicData uri="http://schemas.openxmlformats.org/drawingml/2006/table">
            <a:tbl>
              <a:tblPr/>
              <a:tblGrid>
                <a:gridCol w="312840"/>
                <a:gridCol w="515880"/>
                <a:gridCol w="614520"/>
                <a:gridCol w="1287360"/>
                <a:gridCol w="669960"/>
                <a:gridCol w="600120"/>
                <a:gridCol w="442800"/>
                <a:gridCol w="668160"/>
                <a:gridCol w="648000"/>
                <a:gridCol w="444240"/>
                <a:gridCol w="669960"/>
                <a:gridCol w="642960"/>
                <a:gridCol w="536760"/>
              </a:tblGrid>
              <a:tr h="476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 algn="just">
                        <a:lnSpc>
                          <a:spcPts val="12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80,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0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іцнення та поліпшення здо-ров’я населення шля-хом забезпечення потреб населення у первинній медичній допомозі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8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Прямоугольник 5"/>
          <p:cNvSpPr/>
          <p:nvPr/>
        </p:nvSpPr>
        <p:spPr>
          <a:xfrm>
            <a:off x="611280" y="3789360"/>
            <a:ext cx="771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Видатки на реалізацію регіональних цільових програм, які виконуються в межах бюджетної програми,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8028000" y="4076640"/>
            <a:ext cx="5000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4292640"/>
          <a:ext cx="8053560" cy="1774800"/>
        </p:xfrm>
        <a:graphic>
          <a:graphicData uri="http://schemas.openxmlformats.org/drawingml/2006/table">
            <a:tbl>
              <a:tblPr/>
              <a:tblGrid>
                <a:gridCol w="2112840"/>
                <a:gridCol w="689040"/>
                <a:gridCol w="760680"/>
                <a:gridCol w="531720"/>
                <a:gridCol w="689040"/>
                <a:gridCol w="758520"/>
                <a:gridCol w="459000"/>
                <a:gridCol w="682560"/>
                <a:gridCol w="836640"/>
                <a:gridCol w="533520"/>
              </a:tblGrid>
              <a:tr h="48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635040" algn="just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(надані кредити)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755640" y="836640"/>
            <a:ext cx="58309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9640" y="1052640"/>
          <a:ext cx="8164800" cy="4968720"/>
        </p:xfrm>
        <a:graphic>
          <a:graphicData uri="http://schemas.openxmlformats.org/drawingml/2006/table">
            <a:tbl>
              <a:tblPr/>
              <a:tblGrid>
                <a:gridCol w="276480"/>
                <a:gridCol w="630000"/>
                <a:gridCol w="1901880"/>
                <a:gridCol w="576360"/>
                <a:gridCol w="1224000"/>
                <a:gridCol w="1439640"/>
                <a:gridCol w="1235160"/>
                <a:gridCol w="881280"/>
              </a:tblGrid>
              <a:tr h="4852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іцнення та поліпшен-ня здоров’я населення шляхом забезпечення потреб населення у первинній медичній допомозі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причин розбіжностей між затвердженими та досягнутими результативними показник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570560" y="444600"/>
            <a:ext cx="87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717480" y="984240"/>
            <a:ext cx="4619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8055000" y="939960"/>
            <a:ext cx="5000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6400" y="1292400"/>
          <a:ext cx="8228160" cy="2914560"/>
        </p:xfrm>
        <a:graphic>
          <a:graphicData uri="http://schemas.openxmlformats.org/drawingml/2006/table">
            <a:tbl>
              <a:tblPr/>
              <a:tblGrid>
                <a:gridCol w="368640"/>
                <a:gridCol w="1465200"/>
                <a:gridCol w="536400"/>
                <a:gridCol w="540000"/>
                <a:gridCol w="539640"/>
                <a:gridCol w="385560"/>
                <a:gridCol w="540000"/>
                <a:gridCol w="536400"/>
                <a:gridCol w="385920"/>
                <a:gridCol w="539640"/>
                <a:gridCol w="536760"/>
                <a:gridCol w="385560"/>
                <a:gridCol w="539640"/>
                <a:gridCol w="536760"/>
                <a:gridCol w="392040"/>
              </a:tblGrid>
              <a:tr h="495000">
                <a:tc rowSpan="2"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за звіт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 прое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0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ї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 щодо розбіжностей між фактичними надходженнями і тими, що затверджені паспортом бюджетної 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Прямоугольник 5"/>
          <p:cNvSpPr/>
          <p:nvPr/>
        </p:nvSpPr>
        <p:spPr>
          <a:xfrm>
            <a:off x="716040" y="4064040"/>
            <a:ext cx="77961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36400" y="4394160"/>
            <a:ext cx="806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Зазначаються усі підпрограми та завдання, затверджені паспортом бюджетної 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6"/>
              </a:lnSpc>
              <a:spcAft>
                <a:spcPts val="12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8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96880" y="5084640"/>
            <a:ext cx="75042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24"/>
              </a:lnSpc>
              <a:spcBef>
                <a:spcPts val="12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ерший заступник голови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   О.Ю.Михалі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Г оловний бухгалтер районної державної адміністрації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Н.П.Какалю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підпис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7-10-04T13:01:48Z</dcterms:modified>
  <cp:revision>234</cp:revision>
  <dc:subject/>
  <dc:title>Слайд 1</dc:title>
</cp:coreProperties>
</file>