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25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09.02.2017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09.02.201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_____ №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7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3181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3181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318100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Надання та повернення довгострокового кредиту та будівництва (реконструкцію) та придбання жит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6360"/>
            <a:ext cx="7745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55,0 тис. гривень, у тому числі загального фонду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7,5 тис.  гривень та спеціального фонду – 27,5 тис. гривен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дання та   повернення    пільгового    дострокового    кредиту     та   будівництва            ( реконструкцію) на придбання житл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14240" y="3143160"/>
          <a:ext cx="5639040" cy="37800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480"/>
              </a:tblGrid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Прямоугольник 4"/>
          <p:cNvSpPr/>
          <p:nvPr/>
        </p:nvSpPr>
        <p:spPr>
          <a:xfrm>
            <a:off x="826920" y="3767040"/>
            <a:ext cx="53089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28640" y="4427640"/>
            <a:ext cx="5307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400" y="4149720"/>
          <a:ext cx="5637240" cy="178596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539640"/>
                <a:gridCol w="261144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8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,пов’язаних з наданням та обслуговуванням державних пільгових кредитів ,наданих індивідуальним сільським забудовник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8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ання державного пільгового кредиту індивідуальним сільським забудовни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8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ернення коштів,наданих для кредитування індивідуальним сільським забудовни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Ь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14760" y="54756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2997360"/>
          <a:ext cx="7216920" cy="451620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дання -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виконання наданих законодавством повноважен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кладених договорів за якими необхідно  погасити відсо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кладених договорів за якими планується здійснювати обслуговування кредит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витрати на обслуговування одного кредитного догово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а вага коштів коштів,за якими у звітному році здійснювалося обслуговування кредитів до укладених догов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зростання витрат на обслуговування  одгого кредитного договору порівнянно з попереднім рок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2960" y="1214280"/>
          <a:ext cx="5638680" cy="134172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8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8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8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8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714240" y="4929120"/>
            <a:ext cx="7429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Керівник установи головного розпорядника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бюджетних коштів__                                                                                        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714240" y="5429160"/>
            <a:ext cx="75009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7-06-20T12:29:55Z</dcterms:modified>
  <cp:revision>249</cp:revision>
  <dc:subject/>
  <dc:title>Слайд 1</dc:title>
</cp:coreProperties>
</file>