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Розпорядження №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168  _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від 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14.06.2017 року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Камінь-Каширська районна державна адміністрація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 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аказ _Управління фінансів К-Каширської РДА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_14.06.2017 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_______ №__34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17920" y="3860640"/>
            <a:ext cx="3827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 2017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797040" y="4489560"/>
            <a:ext cx="768024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.   0300000   __Камінь-Каширська районна державна адміністрація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.   0310000___Камінь-Каширська районна державна адміністрація 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._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0316662        0410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рограми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Національна програма інформатизаці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11520" y="549360"/>
            <a:ext cx="889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684360" y="1204920"/>
            <a:ext cx="77454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 13,0 тис. гривень, у тому числі загального фонду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3,0 тис.  гривень та спеціального фонду  _____________ тис. гривен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.Підстави для виконання бюджетної програми :   рішення  районної ради   від 09.06.2017 року №21/4,Конституція України (Закон від 28.06.1996 р. №254/96 ;Бюджетний кодекс України від 08.07.2010 р. №2456-УІ (зі змінами та доповненнями Наказу МФУ від 02.12.2014 р.№195 “Про затвердження структури кодування програмної класидікації видатків та кредитування місцевих бюджетів і типової програмної класифікації видатків та кредитування місцевих бюджетів,які не використовують програмно-цільового методу (зі змінами від 04.02.2016 р. №34 та від 03.06.2016 . №526 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Мета бюджетної програми :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Сприяння безперешкодній діяльності засобів масової інформації,утвердження свобод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слова та розвитку медіапростору ,забезпечення конституційного права громадян України на інформацію ,відкритості і прозорості діяльності органів влади , інформаційної безпеки та реалізації державої інформаційної політики на території район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826920" y="3767040"/>
            <a:ext cx="530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728640" y="4425840"/>
            <a:ext cx="5307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63400" y="4149720"/>
          <a:ext cx="5637240" cy="1263600"/>
        </p:xfrm>
        <a:graphic>
          <a:graphicData uri="http://schemas.openxmlformats.org/drawingml/2006/table">
            <a:tbl>
              <a:tblPr/>
              <a:tblGrid>
                <a:gridCol w="317520"/>
                <a:gridCol w="540000"/>
                <a:gridCol w="539640"/>
                <a:gridCol w="2611440"/>
                <a:gridCol w="576360"/>
                <a:gridCol w="647640"/>
                <a:gridCol w="404640"/>
              </a:tblGrid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 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166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а програма інформатиз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514760" y="549360"/>
            <a:ext cx="777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857160" y="2500200"/>
            <a:ext cx="523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2997360"/>
          <a:ext cx="7216920" cy="4235400"/>
        </p:xfrm>
        <a:graphic>
          <a:graphicData uri="http://schemas.openxmlformats.org/drawingml/2006/table">
            <a:tbl>
              <a:tblPr/>
              <a:tblGrid>
                <a:gridCol w="750960"/>
                <a:gridCol w="690480"/>
                <a:gridCol w="1614600"/>
                <a:gridCol w="1461960"/>
                <a:gridCol w="1374840"/>
                <a:gridCol w="1324080"/>
              </a:tblGrid>
              <a:tr h="295560">
                <a:tc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166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а програма інформатизації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фінансового ресурсу на реалізацію заход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ори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кладених договорі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иц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ісяч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ост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я витра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 бухобліку (оборотно-сальдова відомі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тність устан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ост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зростання витрат на обслуговування   договору порівнянно з попереднім рок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о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тність устан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42960" y="1214280"/>
          <a:ext cx="5638680" cy="1287720"/>
        </p:xfrm>
        <a:graphic>
          <a:graphicData uri="http://schemas.openxmlformats.org/drawingml/2006/table">
            <a:tbl>
              <a:tblPr/>
              <a:tblGrid>
                <a:gridCol w="2057400"/>
                <a:gridCol w="727200"/>
                <a:gridCol w="1000080"/>
                <a:gridCol w="923760"/>
                <a:gridCol w="930240"/>
              </a:tblGrid>
              <a:tr h="330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іональна програма інформатиз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166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Прямоугольник 8"/>
          <p:cNvSpPr/>
          <p:nvPr/>
        </p:nvSpPr>
        <p:spPr>
          <a:xfrm>
            <a:off x="714240" y="928800"/>
            <a:ext cx="5875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511520" y="549360"/>
            <a:ext cx="889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24000" y="4227480"/>
            <a:ext cx="7939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Прямоугольник 8"/>
          <p:cNvSpPr/>
          <p:nvPr/>
        </p:nvSpPr>
        <p:spPr>
          <a:xfrm>
            <a:off x="512640" y="1033560"/>
            <a:ext cx="4689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7750080" y="1338120"/>
            <a:ext cx="503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714240" y="4929120"/>
            <a:ext cx="7429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Перший заступник голови райдержадміністрації                          _______________                                             _____</a:t>
            </a:r>
            <a:r>
              <a:rPr b="0" lang="uk-UA" sz="900" spc="-1" strike="noStrike" u="sng">
                <a:solidFill>
                  <a:srgbClr val="000000"/>
                </a:solidFill>
                <a:uFillTx/>
                <a:latin typeface="Times New Roman"/>
              </a:rPr>
              <a:t>  О.Ю.Михалік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(ініціали та прізвище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714240" y="5429160"/>
            <a:ext cx="7500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Керівник фінансового органу__                                                                _______________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_____В.Г. Бортнійчук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         (ініціали та прізвище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бух</cp:lastModifiedBy>
  <cp:lastPrinted>2016-10-07T09:27:26Z</cp:lastPrinted>
  <dcterms:modified xsi:type="dcterms:W3CDTF">2017-06-20T12:21:09Z</dcterms:modified>
  <cp:revision>257</cp:revision>
  <dc:subject/>
  <dc:title>Слайд 1</dc:title>
</cp:coreProperties>
</file>